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04000" cy="9939240"/>
          </a:xfrm>
          <a:custGeom>
            <a:avLst/>
            <a:gdLst>
              <a:gd name="textAreaLeft" fmla="*/ 360 w 6804000"/>
              <a:gd name="textAreaRight" fmla="*/ 6803640 w 680400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41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1120" y="4721040"/>
            <a:ext cx="54417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41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C9255-9967-424F-A7E3-FB9CD86761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920880" y="74628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541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AE7DD-8912-486A-9BF1-C100233CF9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541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17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meentelijke model Architectuur. Architectuurproducten vanuit EGEM. GEMMA als totaalpakket van kennisdocumenten, standaardaanpakken, architectuur, referentiemodellen en standaarden. GEMMA als totaalpakket blijft, de inhoud van het pakket kan worden uitgebre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andreiking: Kennisdocument dat helpt om een strategiedocument architectuur voor de gemeente op te stellen. Daarin staan uw ambities en een aanpak voor een elektronische geme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pplicatie en procesarchitectuur: Standaard FO/MO/BO architectuur met vanuit dienstverleningsarchitectuurgedachte de bijbehorende front, midoffice en backoffice applicatiearchitectuur en bijbehorend (dienstverlenings)pro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-formulieren en e-processen: Standaard ontwerpen en beschrijvingen van e-formulieren (meer dan 50) met voor een groot aantal ook e-processen en stuf beric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SGB: Referentiemodel voor de gemeentelijke basisgegevens. Gegevensmodel waarin de basisregistraties personen, bedrijven, adressen, gebouwen en deze week wordt hierbij het WOZ opgenomen. Aankomende zomer wordt Zaken toegevoeg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UF: Berichtenstandaard op basis van XML voor gegevensuitwisseling tussen FO/MO en BO, en tussen BO gemeenten en landelijke basisregistraties en sectoren zoals belastingdienst, waterschappen en zorginstellin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NDEZ: Een standaard bestek en aanpak om een frontoffice en midoffice aanbesteding te do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amenhangnotitie: Een beschrijving van de samenhang van de verschillende architectuurproduc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r info te verkrijgen op de EGEM stand in de factsheets, op de website of door via mail/tel contact op te nemen met EG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(niet ingaan op details per product, hou het algem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81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aken en gegevenspakhuis hoeven geen monolitische blokken te zij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uurgegevens StUF: redirect vraagberichten of meldingen (of opdrachten) naar de back-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UF als een back-office bro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Uiteindelijk ook StUF in de O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F6CF-A73B-4E42-BB42-E15FA5042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511560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41C6-E1BA-4767-BC7B-928F86DAC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548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0799-4E3A-459B-93AB-99AC8EA5A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16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16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E705-4784-45E5-B049-37F9C6077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06400" y="2276640"/>
            <a:ext cx="7940880" cy="54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088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6640"/>
            <a:ext cx="7940880" cy="54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CEE3-C323-4CD8-A456-AA6AA1CC8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548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06400" y="511560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548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128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16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0640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128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16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088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828E-2730-48DE-858C-95CEDEE28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8FAD-78E3-43F2-9B2A-A2299F133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9F58-D1C6-4A95-A12A-EA6F10815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F70C-2219-4A46-BDFE-57BF468C5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CC88-1ED1-495C-9326-A71A29E6D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548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E8B4-DB49-4F93-B620-05CA7839D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E4D3-ABC3-4E8E-817C-B640BCF0F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640"/>
            <a:ext cx="794088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49876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6EA59B94-F03F-43C6-B460-1EA8CE2900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935BA3BF-FDB0-40F8-BC4D-0A7EFAC30A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49876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3.png"/><Relationship Id="rId29" Type="http://schemas.openxmlformats.org/officeDocument/2006/relationships/slide" Target="slide16.xml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8.png"/><Relationship Id="rId34" Type="http://schemas.openxmlformats.org/officeDocument/2006/relationships/slide" Target="slide17.xml"/><Relationship Id="rId35" Type="http://schemas.openxmlformats.org/officeDocument/2006/relationships/slide" Target="slide17.xml"/><Relationship Id="rId36" Type="http://schemas.openxmlformats.org/officeDocument/2006/relationships/slide" Target="slide17.xml"/><Relationship Id="rId37" Type="http://schemas.openxmlformats.org/officeDocument/2006/relationships/slide" Target="slide17.xml"/><Relationship Id="rId38" Type="http://schemas.openxmlformats.org/officeDocument/2006/relationships/slide" Target="slide17.xml"/><Relationship Id="rId39" Type="http://schemas.openxmlformats.org/officeDocument/2006/relationships/slide" Target="slide17.xml"/><Relationship Id="rId40" Type="http://schemas.openxmlformats.org/officeDocument/2006/relationships/slide" Target="slide17.xml"/><Relationship Id="rId41" Type="http://schemas.openxmlformats.org/officeDocument/2006/relationships/slide" Target="slide17.xml"/><Relationship Id="rId42" Type="http://schemas.openxmlformats.org/officeDocument/2006/relationships/image" Target="../media/image10.png"/><Relationship Id="rId43" Type="http://schemas.openxmlformats.org/officeDocument/2006/relationships/slide" Target="slide17.xml"/><Relationship Id="rId44" Type="http://schemas.openxmlformats.org/officeDocument/2006/relationships/slideLayout" Target="../slideLayouts/slideLayout3.xml"/><Relationship Id="rId4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31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ATJES VOOR BEHEERMODEL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560" y="4495320"/>
            <a:ext cx="6945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94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tUF Sectormodellen in andere sector- of domeingerichte ket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4343400" cy="2530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200400" y="2971800"/>
            <a:ext cx="609480" cy="1295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6360" y="2637000"/>
            <a:ext cx="417672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ijv. in WMO ke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richtuitwisseling tus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ie-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rgverle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343400" y="2895480"/>
            <a:ext cx="1447920" cy="990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bij 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609480"/>
            <a:ext cx="3810240" cy="947880"/>
          </a:xfrm>
          <a:prstGeom prst="roundRect">
            <a:avLst>
              <a:gd name="adj" fmla="val 8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bruikers van StU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695160"/>
            <a:ext cx="99072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695160"/>
            <a:ext cx="106704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eten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695160"/>
            <a:ext cx="144792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uders van basisregistrati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286000"/>
            <a:ext cx="2210040" cy="1752480"/>
          </a:xfrm>
          <a:prstGeom prst="roundRect">
            <a:avLst>
              <a:gd name="adj" fmla="val 60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direct belanghebb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362320"/>
            <a:ext cx="990720" cy="419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2362320"/>
            <a:ext cx="990720" cy="419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jks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2855880"/>
            <a:ext cx="990720" cy="42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central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855880"/>
            <a:ext cx="990720" cy="42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152280"/>
            <a:ext cx="1905120" cy="1981440"/>
          </a:xfrm>
          <a:custGeom>
            <a:avLst/>
            <a:gdLst>
              <a:gd name="textAreaLeft" fmla="*/ 25920 w 1905120"/>
              <a:gd name="textAreaRight" fmla="*/ 1879200 w 1905120"/>
              <a:gd name="textAreaTop" fmla="*/ 25920 h 1981440"/>
              <a:gd name="textAreaBottom" fmla="*/ 1955520 h 1981440"/>
            </a:gdLst>
            <a:ahLst/>
            <a:rect l="textAreaLeft" t="textAreaTop" r="textAreaRight" b="textAreaBottom"/>
            <a:pathLst>
              <a:path w="21600" h="22465">
                <a:moveTo>
                  <a:pt x="1008" y="0"/>
                </a:moveTo>
                <a:arcTo wR="1008" hR="1008" stAng="16200000" swAng="-5400000"/>
                <a:lnTo>
                  <a:pt x="0" y="21457"/>
                </a:lnTo>
                <a:arcTo wR="1008" hR="1008" stAng="10800000" swAng="-5400000"/>
                <a:lnTo>
                  <a:pt x="20592" y="22465"/>
                </a:lnTo>
                <a:arcTo wR="1008" hR="1008" stAng="5400000" swAng="-5400000"/>
                <a:lnTo>
                  <a:pt x="21600" y="1008"/>
                </a:lnTo>
                <a:arcTo wR="1008" hR="1008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-Overheids projec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2286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60948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2286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60948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U/An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990720"/>
            <a:ext cx="8380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C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990720"/>
            <a:ext cx="8380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3716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13716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4419720"/>
            <a:ext cx="2666880" cy="838080"/>
          </a:xfrm>
          <a:prstGeom prst="roundRect">
            <a:avLst>
              <a:gd name="adj" fmla="val 87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495680"/>
            <a:ext cx="106704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akket leveranc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4495680"/>
            <a:ext cx="137160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CT leveranciers projec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4419720"/>
            <a:ext cx="1218960" cy="1143000"/>
          </a:xfrm>
          <a:prstGeom prst="roundRect">
            <a:avLst>
              <a:gd name="adj" fmla="val 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tUF 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4495680"/>
            <a:ext cx="106704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dviesbure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4876920"/>
            <a:ext cx="106704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CT Exp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3581280"/>
            <a:ext cx="1600200" cy="1295640"/>
          </a:xfrm>
          <a:prstGeom prst="roundRect">
            <a:avLst>
              <a:gd name="adj" fmla="val 56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heer &amp; Onderh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an de standa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91520" y="4114800"/>
            <a:ext cx="114300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GEM-i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3657600"/>
            <a:ext cx="11430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meinexper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gi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620640"/>
            <a:ext cx="2590920" cy="935280"/>
          </a:xfrm>
          <a:prstGeom prst="roundRect">
            <a:avLst>
              <a:gd name="adj" fmla="val 9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torregi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03640" y="692280"/>
            <a:ext cx="76212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K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95800" y="692280"/>
            <a:ext cx="68580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692280"/>
            <a:ext cx="76212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152280"/>
            <a:ext cx="2590920" cy="38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05720" y="5181480"/>
            <a:ext cx="2133360" cy="38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ste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334120"/>
            <a:ext cx="2286000" cy="38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1523880"/>
            <a:ext cx="1524240" cy="1371600"/>
          </a:xfrm>
          <a:custGeom>
            <a:avLst/>
            <a:gdLst/>
            <a:ahLst/>
            <a:rect l="l" t="t" r="r" b="b"/>
            <a:pathLst>
              <a:path w="535" h="914">
                <a:moveTo>
                  <a:pt x="0" y="0"/>
                </a:moveTo>
                <a:lnTo>
                  <a:pt x="0" y="646"/>
                </a:lnTo>
                <a:lnTo>
                  <a:pt x="535" y="646"/>
                </a:lnTo>
                <a:lnTo>
                  <a:pt x="535" y="91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968000" y="1523880"/>
            <a:ext cx="212760" cy="1376640"/>
          </a:xfrm>
          <a:custGeom>
            <a:avLst/>
            <a:gdLst/>
            <a:ahLst/>
            <a:rect l="l" t="t" r="r" b="b"/>
            <a:pathLst>
              <a:path w="395" h="915">
                <a:moveTo>
                  <a:pt x="1" y="0"/>
                </a:moveTo>
                <a:lnTo>
                  <a:pt x="0" y="496"/>
                </a:lnTo>
                <a:lnTo>
                  <a:pt x="395" y="496"/>
                </a:lnTo>
                <a:lnTo>
                  <a:pt x="395" y="91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48160" y="2133720"/>
            <a:ext cx="2195640" cy="766800"/>
          </a:xfrm>
          <a:custGeom>
            <a:avLst/>
            <a:gdLst/>
            <a:ahLst/>
            <a:rect l="l" t="t" r="r" b="b"/>
            <a:pathLst>
              <a:path w="1152" h="914">
                <a:moveTo>
                  <a:pt x="1152" y="0"/>
                </a:moveTo>
                <a:lnTo>
                  <a:pt x="1152" y="646"/>
                </a:lnTo>
                <a:lnTo>
                  <a:pt x="0" y="646"/>
                </a:lnTo>
                <a:lnTo>
                  <a:pt x="0" y="91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3887640"/>
            <a:ext cx="2360520" cy="532080"/>
          </a:xfrm>
          <a:custGeom>
            <a:avLst/>
            <a:gdLst/>
            <a:ahLst/>
            <a:rect l="l" t="t" r="r" b="b"/>
            <a:pathLst>
              <a:path w="623" h="527">
                <a:moveTo>
                  <a:pt x="0" y="527"/>
                </a:moveTo>
                <a:lnTo>
                  <a:pt x="0" y="350"/>
                </a:lnTo>
                <a:lnTo>
                  <a:pt x="623" y="350"/>
                </a:lnTo>
                <a:lnTo>
                  <a:pt x="6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581280"/>
            <a:ext cx="228600" cy="83844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432" y="528"/>
                </a:moveTo>
                <a:lnTo>
                  <a:pt x="4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3200400"/>
            <a:ext cx="1981080" cy="380880"/>
          </a:xfrm>
          <a:custGeom>
            <a:avLst/>
            <a:gdLst/>
            <a:ahLst/>
            <a:rect l="l" t="t" r="r" b="b"/>
            <a:pathLst>
              <a:path w="864" h="672">
                <a:moveTo>
                  <a:pt x="864" y="672"/>
                </a:moveTo>
                <a:lnTo>
                  <a:pt x="864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58" idx="3"/>
            <a:endCxn id="253" idx="1"/>
          </p:cNvCxnSpPr>
          <p:nvPr/>
        </p:nvCxnSpPr>
        <p:spPr>
          <a:xfrm>
            <a:off x="2361960" y="3161880"/>
            <a:ext cx="198180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4267080" y="1676520"/>
            <a:ext cx="1905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tere dienstverle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-overheidsd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Lagere adm. Kos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rktwerking door Open standaa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1600200"/>
            <a:ext cx="22100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pdrachtgever voor software. Kostenbesparing en betere dienstverlening door elektronische gegevensuitwisseling (ont)koppeling applica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er keuzevrijheid software en leveranc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2895480"/>
            <a:ext cx="1447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sluiten op overheidsstandaa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ergebruik van bestaande midd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pdrachtgever/financier beheerorganisatie en verster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388620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ICT producten &amp; diensten die voldoen aan klanteisen (StU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38862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ienstverlening integ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meenschappelijke/landelijke voorzienin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zamenlijke inkoop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pdrachtgeversch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9718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Uivvoeren beheer en onderhou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erking, organiseren particip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11640" y="1052640"/>
            <a:ext cx="68580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052640"/>
            <a:ext cx="68580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3352680"/>
            <a:ext cx="990720" cy="42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orum en College Standaardis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stak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7777080" cy="4070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476360" y="1844640"/>
            <a:ext cx="151308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0920" y="5805360"/>
            <a:ext cx="136836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72360" y="4869000"/>
            <a:ext cx="223200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ste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jzigingen via open participatie van stak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16360" y="2060640"/>
            <a:ext cx="417672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2133720"/>
            <a:ext cx="838836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tie van belanghebbenden bij wijzigingen en verbet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vormen: community, expertgroep en reg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icht op brede accep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kkere “productlifecycle” (release-)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sch samenhangende “StUF famil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L als raam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gebruik informatie van EGEM-achtige organisat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KWI, SIVI, Vectiz, Flore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Versterking StUF – in inhoud </a:t>
            </a:r>
            <a:br>
              <a:rPr sz="3200"/>
            </a:b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en in kritieke succesfacto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78360" y="2898720"/>
            <a:ext cx="18334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st/certific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tUF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produc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86200" y="2924280"/>
            <a:ext cx="17190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tU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tektekste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o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71640" y="2924280"/>
            <a:ext cx="18414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oorontwikk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&amp; verbre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tUF standa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82880" y="4905360"/>
            <a:ext cx="18223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eleasebel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richten beh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95320" y="4905360"/>
            <a:ext cx="19051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breding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nnis over St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ij 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81520" y="4905360"/>
            <a:ext cx="19051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tUF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2205000"/>
          <a:ext cx="191448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205000"/>
                    <a:ext cx="1914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4232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UF evolut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2080" y="4437000"/>
            <a:ext cx="263844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5760" indent="-18576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4b0055"/>
                </a:solidFill>
                <a:uFillTx/>
                <a:latin typeface="Arial"/>
                <a:ea typeface="Arial Unicode MS"/>
              </a:rPr>
              <a:t>StUF 1.05 (StUFb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Kennisgev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Vraag/antwo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Proprietary binaire / positionele forma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51520" y="273528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0440" y="2276640"/>
          <a:ext cx="3024360" cy="114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276640"/>
                    <a:ext cx="302436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5364000" y="2205000"/>
            <a:ext cx="3600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5760" indent="-18576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4b0055"/>
                </a:solidFill>
                <a:uFillTx/>
                <a:latin typeface="Arial"/>
                <a:ea typeface="Arial Unicode MS"/>
              </a:rPr>
              <a:t>StUF 3.X (StUF SO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(Synchr. en samengestelde) kennisgev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Vraag/antwo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Hi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Dienstbericht met importmech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Scherpe contracten / foutafhan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SOAP / WSDL / OSB bind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4b0055"/>
                </a:solidFill>
                <a:uFillTx/>
                <a:latin typeface="Arial"/>
                <a:ea typeface="Arial Unicode MS"/>
              </a:rPr>
              <a:t>StUF Sector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 “</a:t>
            </a: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Familiestructuu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RSG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98800" y="3645000"/>
            <a:ext cx="2638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5760" indent="-18576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4b0055"/>
                </a:solidFill>
                <a:uFillTx/>
                <a:latin typeface="Arial"/>
                <a:ea typeface="Arial Unicode MS"/>
              </a:rPr>
              <a:t>StUF 2.04 (StUF X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Kennisgev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Vraag/antwo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SOAP / WS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4b0055"/>
                </a:solidFill>
                <a:uFillTx/>
                <a:latin typeface="Arial"/>
                <a:ea typeface="Arial Unicode MS"/>
              </a:rPr>
              <a:t>StUF Sector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GFO BG ‘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GFO Zaken ‘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4960" y="4005360"/>
            <a:ext cx="12704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itfas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1320" y="3500280"/>
            <a:ext cx="105552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 bedrij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68680" y="1773360"/>
            <a:ext cx="356256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 ontwikkeling, </a:t>
            </a: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(release 17/1/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0896-23A7-4CD0-A486-882CD224F93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heer en onderhoud van StUF</a:t>
            </a:r>
            <a:br>
              <a:rPr sz="28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gangspunten en princi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8337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L als raam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gebruik informatie van EGEM-achtige organis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18840" indent="-303840">
              <a:lnSpc>
                <a:spcPct val="11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KWI, SIVI, Vectiz, Flor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ipatie van belanghebbenden bij wijzigingen en verbet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kkere “productlifecycle” (release-)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gisch samenhangende “StUF famil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 van sectormodellen bij de juist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rie vormen van behe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103360" y="2276640"/>
            <a:ext cx="364356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licatiebeheer als basis voor Beheer en onderhoud van St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kleuring voor de St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nda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ftwarebeheer buiten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4876920" cy="40734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411280" y="4076640"/>
            <a:ext cx="2305080" cy="187344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77720" y="4365720"/>
            <a:ext cx="19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800080"/>
                </a:solidFill>
                <a:latin typeface="Arial"/>
              </a:rPr>
              <a:t>A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SL en de relevante processen voor beheer en onderhoud van StU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60199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7386480" cy="4533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724280" y="4572000"/>
            <a:ext cx="838440" cy="53352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5029200"/>
            <a:ext cx="838440" cy="53352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4800600"/>
            <a:ext cx="838080" cy="53352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4191120"/>
            <a:ext cx="838440" cy="53316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191120"/>
            <a:ext cx="761760" cy="68580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6360" y="3500280"/>
            <a:ext cx="914400" cy="68580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2492280"/>
            <a:ext cx="914400" cy="68580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71640" y="5157720"/>
            <a:ext cx="914400" cy="68580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8337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verview StUF – belangrijkste proces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2324160"/>
            <a:ext cx="1728720" cy="6858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38480" y="4191120"/>
            <a:ext cx="146844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derhoud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UF onderd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5280" y="5200560"/>
            <a:ext cx="1293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gebruik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3352680"/>
            <a:ext cx="1239840" cy="6858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take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nalyse</a:t>
            </a:r>
            <a:br>
              <a:rPr sz="1400"/>
            </a:b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54" idx="3"/>
            <a:endCxn id="352" idx="0"/>
          </p:cNvCxnSpPr>
          <p:nvPr/>
        </p:nvCxnSpPr>
        <p:spPr>
          <a:xfrm>
            <a:off x="4363920" y="3695760"/>
            <a:ext cx="410400" cy="496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56" name=""/>
          <p:cNvCxnSpPr>
            <a:stCxn id="354" idx="3"/>
            <a:endCxn id="352" idx="0"/>
          </p:cNvCxnSpPr>
          <p:nvPr/>
        </p:nvCxnSpPr>
        <p:spPr>
          <a:xfrm>
            <a:off x="4363920" y="3695760"/>
            <a:ext cx="4104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838080" y="3200400"/>
            <a:ext cx="1905120" cy="2752560"/>
          </a:xfrm>
          <a:custGeom>
            <a:avLst/>
            <a:gdLst>
              <a:gd name="textAreaLeft" fmla="*/ 39600 w 1905120"/>
              <a:gd name="textAreaRight" fmla="*/ 1865520 w 1905120"/>
              <a:gd name="textAreaTop" fmla="*/ 39600 h 2752560"/>
              <a:gd name="textAreaBottom" fmla="*/ 2712960 h 2752560"/>
            </a:gdLst>
            <a:ahLst/>
            <a:rect l="textAreaLeft" t="textAreaTop" r="textAreaRight" b="textAreaBottom"/>
            <a:pathLst>
              <a:path w="21600" h="31206">
                <a:moveTo>
                  <a:pt x="1540" y="0"/>
                </a:moveTo>
                <a:arcTo wR="1540" hR="1540" stAng="16200000" swAng="-5400000"/>
                <a:lnTo>
                  <a:pt x="0" y="29666"/>
                </a:lnTo>
                <a:arcTo wR="1540" hR="1540" stAng="10800000" swAng="-5400000"/>
                <a:lnTo>
                  <a:pt x="20060" y="31206"/>
                </a:lnTo>
                <a:arcTo wR="1540" hR="1540" stAng="5400000" swAng="-5400000"/>
                <a:lnTo>
                  <a:pt x="21600" y="1540"/>
                </a:lnTo>
                <a:arcTo wR="1540" hR="154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4595760"/>
            <a:ext cx="1468440" cy="4334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upport &amp; adv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6000" y="5200560"/>
            <a:ext cx="1468440" cy="56196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ublicati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15720" y="323064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heerproc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10280" y="321300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nderhoud- en vernieuwingsproc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200400"/>
            <a:ext cx="5562360" cy="2757600"/>
          </a:xfrm>
          <a:prstGeom prst="roundRect">
            <a:avLst>
              <a:gd name="adj" fmla="val 4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2209680"/>
            <a:ext cx="7772400" cy="9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56240" y="23162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chtinggevende proc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181480"/>
            <a:ext cx="1468440" cy="5684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elease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5" idx="3"/>
            <a:endCxn id="353" idx="1"/>
          </p:cNvCxnSpPr>
          <p:nvPr/>
        </p:nvCxnSpPr>
        <p:spPr>
          <a:xfrm>
            <a:off x="5506560" y="546588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1116000" y="3809880"/>
            <a:ext cx="1468440" cy="5778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ciden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553080" y="4419720"/>
            <a:ext cx="1871640" cy="5760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derhoud &amp; v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ieuwing additione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en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7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/>
          <p:nvPr/>
        </p:nvCxnSpPr>
        <p:spPr>
          <a:xfrm>
            <a:off x="5506920" y="4495320"/>
            <a:ext cx="1046880" cy="213480"/>
          </a:xfrm>
          <a:prstGeom prst="bentConnector3">
            <a:avLst>
              <a:gd name="adj1" fmla="val 480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2" idx="3"/>
            <a:endCxn id="353" idx="1"/>
          </p:cNvCxnSpPr>
          <p:nvPr/>
        </p:nvCxnSpPr>
        <p:spPr>
          <a:xfrm>
            <a:off x="5506560" y="4495320"/>
            <a:ext cx="1008720" cy="9723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5" idx="0"/>
            <a:endCxn id="352" idx="2"/>
          </p:cNvCxnSpPr>
          <p:nvPr/>
        </p:nvCxnSpPr>
        <p:spPr>
          <a:xfrm flipV="1">
            <a:off x="4773240" y="480024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2743200" y="4495680"/>
            <a:ext cx="304920" cy="2286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23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arom 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ering van StUF en 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F - fami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bru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atie en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twikk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0160" y="5900760"/>
            <a:ext cx="75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on: sommige figuren/sheets zijn overgenomen uit presentatie van Paul Sch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FFEB-CF73-4BFB-A938-5F532A57704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ces: Intake en analy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5960" y="235908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saanvra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3.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62320" y="388620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Uitwerken/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.aanvraag.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sverzoek (RF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3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9880" y="4572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mpact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75" idx="2"/>
            <a:endCxn id="376" idx="1"/>
          </p:cNvCxnSpPr>
          <p:nvPr/>
        </p:nvCxnSpPr>
        <p:spPr>
          <a:xfrm flipH="1" rot="16200000">
            <a:off x="3257280" y="4323960"/>
            <a:ext cx="381960" cy="72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438280" y="243828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ijzig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raa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4" idx="3"/>
            <a:endCxn id="378" idx="1"/>
          </p:cNvCxnSpPr>
          <p:nvPr/>
        </p:nvCxnSpPr>
        <p:spPr>
          <a:xfrm>
            <a:off x="1911240" y="2664000"/>
            <a:ext cx="5277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4191120" y="3924360"/>
            <a:ext cx="761760" cy="53352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ijzig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oek (RFC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atusoverzic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"/>
          <p:cNvCxnSpPr>
            <a:stCxn id="375" idx="3"/>
            <a:endCxn id="380" idx="1"/>
          </p:cNvCxnSpPr>
          <p:nvPr/>
        </p:nvCxnSpPr>
        <p:spPr>
          <a:xfrm>
            <a:off x="3809520" y="419076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12952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1752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dee/proble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76" idx="2"/>
          </p:cNvCxnSpPr>
          <p:nvPr/>
        </p:nvCxnSpPr>
        <p:spPr>
          <a:xfrm flipH="1" rot="16200000">
            <a:off x="4399200" y="5314680"/>
            <a:ext cx="5342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1523880" y="31240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oorde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saanvraa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3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320040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oordeel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ijzig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raa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85" idx="3"/>
            <a:endCxn id="386" idx="1"/>
          </p:cNvCxnSpPr>
          <p:nvPr/>
        </p:nvCxnSpPr>
        <p:spPr>
          <a:xfrm>
            <a:off x="2666880" y="3428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74" idx="2"/>
            <a:endCxn id="385" idx="1"/>
          </p:cNvCxnSpPr>
          <p:nvPr/>
        </p:nvCxnSpPr>
        <p:spPr>
          <a:xfrm flipH="1" rot="16200000">
            <a:off x="1162440" y="3068280"/>
            <a:ext cx="46116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85" idx="2"/>
            <a:endCxn id="375" idx="1"/>
          </p:cNvCxnSpPr>
          <p:nvPr/>
        </p:nvCxnSpPr>
        <p:spPr>
          <a:xfrm flipH="1" rot="16200000">
            <a:off x="1999080" y="3828960"/>
            <a:ext cx="45792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5486400" y="243828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dministreren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gen wijzigi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3.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3048120"/>
            <a:ext cx="609480" cy="4572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Wijziging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243828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verzic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ijzigin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n 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>
            <a:stCxn id="390" idx="2"/>
            <a:endCxn id="391" idx="1"/>
          </p:cNvCxnSpPr>
          <p:nvPr/>
        </p:nvCxnSpPr>
        <p:spPr>
          <a:xfrm>
            <a:off x="6019560" y="2895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8" idx="3"/>
            <a:endCxn id="390" idx="1"/>
          </p:cNvCxnSpPr>
          <p:nvPr/>
        </p:nvCxnSpPr>
        <p:spPr>
          <a:xfrm>
            <a:off x="3200400" y="266652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395" name=""/>
          <p:cNvCxnSpPr>
            <a:stCxn id="386" idx="3"/>
            <a:endCxn id="390" idx="1"/>
          </p:cNvCxnSpPr>
          <p:nvPr/>
        </p:nvCxnSpPr>
        <p:spPr>
          <a:xfrm flipV="1">
            <a:off x="3885840" y="2666160"/>
            <a:ext cx="1600920" cy="762840"/>
          </a:xfrm>
          <a:prstGeom prst="bentConnector3">
            <a:avLst>
              <a:gd name="adj1" fmla="val 5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96" name=""/>
          <p:cNvCxnSpPr>
            <a:stCxn id="380" idx="3"/>
            <a:endCxn id="390" idx="1"/>
          </p:cNvCxnSpPr>
          <p:nvPr/>
        </p:nvCxnSpPr>
        <p:spPr>
          <a:xfrm flipV="1">
            <a:off x="4952880" y="2666520"/>
            <a:ext cx="534240" cy="1524960"/>
          </a:xfrm>
          <a:prstGeom prst="bentConnector3">
            <a:avLst>
              <a:gd name="adj1" fmla="val 4996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92" idx="1"/>
          </p:cNvCxnSpPr>
          <p:nvPr/>
        </p:nvCxnSpPr>
        <p:spPr>
          <a:xfrm>
            <a:off x="6552720" y="2666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74" idx="2"/>
          </p:cNvCxnSpPr>
          <p:nvPr/>
        </p:nvCxnSpPr>
        <p:spPr>
          <a:xfrm flipH="1" rot="16200000">
            <a:off x="587160" y="3643560"/>
            <a:ext cx="1423080" cy="72360"/>
          </a:xfrm>
          <a:prstGeom prst="bentConnector4">
            <a:avLst>
              <a:gd name="adj1" fmla="val 39271"/>
              <a:gd name="adj2" fmla="val 420000"/>
            </a:avLst>
          </a:prstGeom>
          <a:ln w="0">
            <a:noFill/>
          </a:ln>
        </p:spPr>
      </p:cxnSp>
      <p:cxnSp>
        <p:nvCxnSpPr>
          <p:cNvPr id="399" name=""/>
          <p:cNvCxnSpPr>
            <a:stCxn id="375" idx="2"/>
          </p:cNvCxnSpPr>
          <p:nvPr/>
        </p:nvCxnSpPr>
        <p:spPr>
          <a:xfrm flipH="1" rot="16200000">
            <a:off x="3333600" y="4247640"/>
            <a:ext cx="1220040" cy="1715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4800600" y="5562720"/>
            <a:ext cx="1752480" cy="2872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50" y="0"/>
                </a:lnTo>
                <a:lnTo>
                  <a:pt x="21600" y="10800"/>
                </a:lnTo>
                <a:lnTo>
                  <a:pt x="2015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nderhoud StUF onderde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ces: Release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08000" y="314172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stell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voors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4.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>
            <a:off x="3355920" y="34081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4346640" y="466560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astste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4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5440" y="4741920"/>
            <a:ext cx="914400" cy="38088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efiniti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elease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"/>
          <p:cNvCxnSpPr>
            <a:endCxn id="405" idx="1"/>
          </p:cNvCxnSpPr>
          <p:nvPr/>
        </p:nvCxnSpPr>
        <p:spPr>
          <a:xfrm>
            <a:off x="5793840" y="493200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2" idx="2"/>
            <a:endCxn id="408" idx="1"/>
          </p:cNvCxnSpPr>
          <p:nvPr/>
        </p:nvCxnSpPr>
        <p:spPr>
          <a:xfrm flipH="1" rot="16200000">
            <a:off x="2689200" y="3693600"/>
            <a:ext cx="45792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3203640" y="390384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Kiez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igen voork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 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4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27520" y="4017960"/>
            <a:ext cx="914400" cy="38088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736800" y="3218040"/>
            <a:ext cx="914400" cy="38088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eleasevoorstel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scenario’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8" idx="3"/>
            <a:endCxn id="409" idx="1"/>
          </p:cNvCxnSpPr>
          <p:nvPr/>
        </p:nvCxnSpPr>
        <p:spPr>
          <a:xfrm>
            <a:off x="4346640" y="42080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8" idx="2"/>
            <a:endCxn id="404" idx="1"/>
          </p:cNvCxnSpPr>
          <p:nvPr/>
        </p:nvCxnSpPr>
        <p:spPr>
          <a:xfrm flipH="1" rot="16200000">
            <a:off x="3832200" y="4455720"/>
            <a:ext cx="45792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endCxn id="402" idx="0"/>
          </p:cNvCxnSpPr>
          <p:nvPr/>
        </p:nvCxnSpPr>
        <p:spPr>
          <a:xfrm>
            <a:off x="2631600" y="261756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24382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FC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belei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xterne ontwikkeli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jzigingen en imp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5543280" cy="3749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523880" y="2514600"/>
            <a:ext cx="1676520" cy="2133720"/>
          </a:xfrm>
          <a:prstGeom prst="rect">
            <a:avLst/>
          </a:prstGeom>
          <a:solidFill>
            <a:srgbClr val="d1c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hoef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ijzig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ut/noodza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ernieu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29200" y="5562720"/>
            <a:ext cx="1752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2514600"/>
            <a:ext cx="1676160" cy="2133720"/>
          </a:xfrm>
          <a:prstGeom prst="rect">
            <a:avLst/>
          </a:prstGeom>
          <a:solidFill>
            <a:srgbClr val="d1c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oorlooptij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CT leveranciers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bruikersorganisa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4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ces: Onderhouden StUF onderdel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2057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stellen StU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elspecificatie 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5.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421" idx="3"/>
          </p:cNvCxnSpPr>
          <p:nvPr/>
        </p:nvCxnSpPr>
        <p:spPr>
          <a:xfrm>
            <a:off x="2971800" y="23619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4495680" y="2057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eview en vaststel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StUF specificati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5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"/>
          <p:cNvCxnSpPr>
            <a:stCxn id="425" idx="3"/>
          </p:cNvCxnSpPr>
          <p:nvPr/>
        </p:nvCxnSpPr>
        <p:spPr>
          <a:xfrm>
            <a:off x="2971800" y="41907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endCxn id="427" idx="1"/>
          </p:cNvCxnSpPr>
          <p:nvPr/>
        </p:nvCxnSpPr>
        <p:spPr>
          <a:xfrm>
            <a:off x="4114800" y="4190760"/>
            <a:ext cx="381600" cy="68652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9" idx="2"/>
            <a:endCxn id="425" idx="0"/>
          </p:cNvCxnSpPr>
          <p:nvPr/>
        </p:nvCxnSpPr>
        <p:spPr>
          <a:xfrm rot="5400000">
            <a:off x="4037760" y="875880"/>
            <a:ext cx="1220040" cy="4801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1523880" y="38862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aststellen ‘In Gebruik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5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"/>
          <p:cNvCxnSpPr>
            <a:endCxn id="423" idx="1"/>
          </p:cNvCxnSpPr>
          <p:nvPr/>
        </p:nvCxnSpPr>
        <p:spPr>
          <a:xfrm>
            <a:off x="4114800" y="23619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4495680" y="46483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Implement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in softwareproduc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5.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24480" y="4648320"/>
            <a:ext cx="1067040" cy="4572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 nieuw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 koppeling(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27" idx="3"/>
            <a:endCxn id="431" idx="1"/>
          </p:cNvCxnSpPr>
          <p:nvPr/>
        </p:nvCxnSpPr>
        <p:spPr>
          <a:xfrm>
            <a:off x="5943600" y="48765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1143000" y="1447920"/>
            <a:ext cx="684360" cy="287280"/>
          </a:xfrm>
          <a:custGeom>
            <a:avLst/>
            <a:gdLst>
              <a:gd name="textAreaLeft" fmla="*/ 0 w 684360"/>
              <a:gd name="textAreaRight" fmla="*/ 684720 w 68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93" y="0"/>
                </a:lnTo>
                <a:lnTo>
                  <a:pt x="21600" y="10800"/>
                </a:lnTo>
                <a:lnTo>
                  <a:pt x="18593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106668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take en 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/>
          <p:nvPr/>
        </p:nvCxnSpPr>
        <p:spPr>
          <a:xfrm>
            <a:off x="1827360" y="1582560"/>
            <a:ext cx="421200" cy="448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572000" y="4000680"/>
            <a:ext cx="838080" cy="380880"/>
          </a:xfrm>
          <a:custGeom>
            <a:avLst/>
            <a:gdLst>
              <a:gd name="textAreaLeft" fmla="*/ 0 w 838080"/>
              <a:gd name="textAreaRight" fmla="*/ 838440 w 8380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ealis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dditione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produc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"/>
          <p:cNvCxnSpPr>
            <a:endCxn id="436" idx="0"/>
          </p:cNvCxnSpPr>
          <p:nvPr/>
        </p:nvCxnSpPr>
        <p:spPr>
          <a:xfrm>
            <a:off x="4114800" y="41907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4572000" y="3390840"/>
            <a:ext cx="838080" cy="343080"/>
          </a:xfrm>
          <a:custGeom>
            <a:avLst/>
            <a:gdLst>
              <a:gd name="textAreaLeft" fmla="*/ 0 w 838080"/>
              <a:gd name="textAreaRight" fmla="*/ 838440 w 83808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ublic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"/>
          <p:cNvCxnSpPr>
            <a:endCxn id="438" idx="0"/>
          </p:cNvCxnSpPr>
          <p:nvPr/>
        </p:nvCxnSpPr>
        <p:spPr>
          <a:xfrm flipV="1">
            <a:off x="4114800" y="3561480"/>
            <a:ext cx="457920" cy="629640"/>
          </a:xfrm>
          <a:prstGeom prst="bentConnector3">
            <a:avLst>
              <a:gd name="adj1" fmla="val 416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6391440" y="5410080"/>
            <a:ext cx="1066680" cy="3207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gebruik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1" idx="2"/>
            <a:endCxn id="440" idx="0"/>
          </p:cNvCxnSpPr>
          <p:nvPr/>
        </p:nvCxnSpPr>
        <p:spPr>
          <a:xfrm>
            <a:off x="6857640" y="5105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4657680" y="5743440"/>
            <a:ext cx="1295280" cy="3207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cidentbeh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27" idx="2"/>
            <a:endCxn id="442" idx="0"/>
          </p:cNvCxnSpPr>
          <p:nvPr/>
        </p:nvCxnSpPr>
        <p:spPr>
          <a:xfrm>
            <a:off x="5219280" y="5105520"/>
            <a:ext cx="5400" cy="63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2209680" y="1171440"/>
            <a:ext cx="144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 achterliggende standaar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"/>
          <p:cNvCxnSpPr/>
          <p:nvPr/>
        </p:nvCxnSpPr>
        <p:spPr>
          <a:xfrm flipV="1" rot="10800000">
            <a:off x="2247120" y="1581480"/>
            <a:ext cx="3438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763560" y="1752480"/>
            <a:ext cx="144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9320" y="1506600"/>
            <a:ext cx="685800" cy="287280"/>
          </a:xfrm>
          <a:custGeom>
            <a:avLst/>
            <a:gdLst>
              <a:gd name="textAreaLeft" fmla="*/ 0 w 685800"/>
              <a:gd name="textAreaRight" fmla="*/ 686160 w 685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213372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(dee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pecific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I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52680" y="388620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(dee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pecific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29000" y="396252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(dee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pecific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403848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pecific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I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23" idx="0"/>
            <a:endCxn id="421" idx="0"/>
          </p:cNvCxnSpPr>
          <p:nvPr/>
        </p:nvCxnSpPr>
        <p:spPr>
          <a:xfrm rot="5400000">
            <a:off x="3732120" y="572040"/>
            <a:ext cx="2160" cy="297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0" idx="1"/>
            <a:endCxn id="442" idx="1"/>
          </p:cNvCxnSpPr>
          <p:nvPr/>
        </p:nvCxnSpPr>
        <p:spPr>
          <a:xfrm flipV="1" rot="10800000">
            <a:off x="5224320" y="5570280"/>
            <a:ext cx="1167480" cy="17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4" name=""/>
          <p:cNvGrpSpPr/>
          <p:nvPr/>
        </p:nvGrpSpPr>
        <p:grpSpPr>
          <a:xfrm>
            <a:off x="6324480" y="2171880"/>
            <a:ext cx="1447560" cy="495000"/>
            <a:chOff x="6324480" y="2171880"/>
            <a:chExt cx="1447560" cy="495000"/>
          </a:xfrm>
        </p:grpSpPr>
        <p:sp>
          <p:nvSpPr>
            <p:cNvPr id="429" name=""/>
            <p:cNvSpPr/>
            <p:nvPr/>
          </p:nvSpPr>
          <p:spPr>
            <a:xfrm>
              <a:off x="6324480" y="2438280"/>
              <a:ext cx="1447560" cy="228600"/>
            </a:xfrm>
            <a:prstGeom prst="foldedCorner">
              <a:avLst>
                <a:gd name="adj" fmla="val 12500"/>
              </a:avLst>
            </a:prstGeom>
            <a:solidFill>
              <a:srgbClr val="ebe5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StUF onderlaa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24480" y="2171880"/>
              <a:ext cx="914400" cy="228600"/>
            </a:xfrm>
            <a:prstGeom prst="foldedCorner">
              <a:avLst>
                <a:gd name="adj" fmla="val 12500"/>
              </a:avLst>
            </a:prstGeom>
            <a:solidFill>
              <a:srgbClr val="ebe5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StUF-BG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86400" y="2171880"/>
              <a:ext cx="485640" cy="228600"/>
            </a:xfrm>
            <a:prstGeom prst="foldedCorner">
              <a:avLst>
                <a:gd name="adj" fmla="val 12500"/>
              </a:avLst>
            </a:prstGeom>
            <a:solidFill>
              <a:srgbClr val="ebe5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StUF-ZK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594360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cidentbehe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3124080"/>
            <a:ext cx="1295640" cy="32076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mplementati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rvari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38862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anmelden 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gistreren v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fou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396252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38862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denken v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lossing v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"/>
          <p:cNvCxnSpPr>
            <a:stCxn id="459" idx="0"/>
            <a:endCxn id="460" idx="0"/>
          </p:cNvCxnSpPr>
          <p:nvPr/>
        </p:nvCxnSpPr>
        <p:spPr>
          <a:xfrm>
            <a:off x="1447560" y="3284280"/>
            <a:ext cx="114840" cy="602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60" idx="3"/>
            <a:endCxn id="461" idx="1"/>
          </p:cNvCxnSpPr>
          <p:nvPr/>
        </p:nvCxnSpPr>
        <p:spPr>
          <a:xfrm>
            <a:off x="2286000" y="41907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61" idx="3"/>
            <a:endCxn id="466" idx="1"/>
          </p:cNvCxnSpPr>
          <p:nvPr/>
        </p:nvCxnSpPr>
        <p:spPr>
          <a:xfrm>
            <a:off x="3428640" y="419076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7238880" y="396252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ijdelijk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62" idx="3"/>
            <a:endCxn id="467" idx="1"/>
          </p:cNvCxnSpPr>
          <p:nvPr/>
        </p:nvCxnSpPr>
        <p:spPr>
          <a:xfrm>
            <a:off x="6934320" y="419076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152280" y="2666880"/>
            <a:ext cx="1295640" cy="32076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gebruik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33920" y="388620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oorde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0" y="4876920"/>
            <a:ext cx="1752480" cy="4572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take en 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nderhoud StUF onderde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66" idx="2"/>
            <a:endCxn id="470" idx="0"/>
          </p:cNvCxnSpPr>
          <p:nvPr/>
        </p:nvCxnSpPr>
        <p:spPr>
          <a:xfrm flipH="1" rot="16200000">
            <a:off x="5352120" y="3600360"/>
            <a:ext cx="610560" cy="2400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66" idx="3"/>
            <a:endCxn id="462" idx="1"/>
          </p:cNvCxnSpPr>
          <p:nvPr/>
        </p:nvCxnSpPr>
        <p:spPr>
          <a:xfrm>
            <a:off x="5181120" y="419076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7" idx="2"/>
            <a:endCxn id="470" idx="1"/>
          </p:cNvCxnSpPr>
          <p:nvPr/>
        </p:nvCxnSpPr>
        <p:spPr>
          <a:xfrm>
            <a:off x="7619760" y="4419720"/>
            <a:ext cx="54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1601280" y="2895480"/>
            <a:ext cx="87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erstori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fou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"/>
          <p:cNvCxnSpPr>
            <a:stCxn id="469" idx="0"/>
            <a:endCxn id="460" idx="0"/>
          </p:cNvCxnSpPr>
          <p:nvPr/>
        </p:nvCxnSpPr>
        <p:spPr>
          <a:xfrm>
            <a:off x="1447560" y="2827080"/>
            <a:ext cx="114840" cy="1059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ces: Onderhoud en vernieuwing additionele produc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24382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anpas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st/keurings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76920" y="251460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est/keur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"/>
          <p:cNvCxnSpPr>
            <a:stCxn id="477" idx="3"/>
            <a:endCxn id="478" idx="1"/>
          </p:cNvCxnSpPr>
          <p:nvPr/>
        </p:nvCxnSpPr>
        <p:spPr>
          <a:xfrm>
            <a:off x="4495320" y="27428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3048120" y="31240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anpassen/opstell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dditionele StUF docu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78" idx="3"/>
          </p:cNvCxnSpPr>
          <p:nvPr/>
        </p:nvCxnSpPr>
        <p:spPr>
          <a:xfrm>
            <a:off x="5638320" y="27428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83" idx="0"/>
            <a:endCxn id="477" idx="1"/>
          </p:cNvCxnSpPr>
          <p:nvPr/>
        </p:nvCxnSpPr>
        <p:spPr>
          <a:xfrm flipV="1">
            <a:off x="2057400" y="2742840"/>
            <a:ext cx="991440" cy="21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483" idx="1"/>
            <a:endCxn id="480" idx="1"/>
          </p:cNvCxnSpPr>
          <p:nvPr/>
        </p:nvCxnSpPr>
        <p:spPr>
          <a:xfrm>
            <a:off x="2057400" y="2744280"/>
            <a:ext cx="991440" cy="6850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048120" y="38098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anpass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opleidingsmateria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3" idx="2"/>
            <a:endCxn id="485" idx="1"/>
          </p:cNvCxnSpPr>
          <p:nvPr/>
        </p:nvCxnSpPr>
        <p:spPr>
          <a:xfrm>
            <a:off x="2057400" y="2744640"/>
            <a:ext cx="991440" cy="13708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3048120" y="457200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ctualise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wijzigingshistor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stekteks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"/>
          <p:cNvCxnSpPr>
            <a:stCxn id="483" idx="3"/>
            <a:endCxn id="487" idx="1"/>
          </p:cNvCxnSpPr>
          <p:nvPr/>
        </p:nvCxnSpPr>
        <p:spPr>
          <a:xfrm>
            <a:off x="2057400" y="2744280"/>
            <a:ext cx="991440" cy="21330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4876920" y="320040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ddition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ocument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"/>
          <p:cNvCxnSpPr>
            <a:stCxn id="480" idx="3"/>
            <a:endCxn id="489" idx="1"/>
          </p:cNvCxnSpPr>
          <p:nvPr/>
        </p:nvCxnSpPr>
        <p:spPr>
          <a:xfrm>
            <a:off x="4495320" y="34286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89" idx="3"/>
          </p:cNvCxnSpPr>
          <p:nvPr/>
        </p:nvCxnSpPr>
        <p:spPr>
          <a:xfrm>
            <a:off x="5638320" y="34286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2" name=""/>
          <p:cNvSpPr/>
          <p:nvPr/>
        </p:nvSpPr>
        <p:spPr>
          <a:xfrm>
            <a:off x="4876920" y="388620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pleid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85" idx="3"/>
            <a:endCxn id="492" idx="1"/>
          </p:cNvCxnSpPr>
          <p:nvPr/>
        </p:nvCxnSpPr>
        <p:spPr>
          <a:xfrm>
            <a:off x="4495320" y="41144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92" idx="3"/>
          </p:cNvCxnSpPr>
          <p:nvPr/>
        </p:nvCxnSpPr>
        <p:spPr>
          <a:xfrm>
            <a:off x="5638320" y="41144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4876920" y="464832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ijzigingshi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tekteks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"/>
          <p:cNvCxnSpPr>
            <a:stCxn id="487" idx="3"/>
            <a:endCxn id="495" idx="1"/>
          </p:cNvCxnSpPr>
          <p:nvPr/>
        </p:nvCxnSpPr>
        <p:spPr>
          <a:xfrm>
            <a:off x="4495320" y="487656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"/>
          <p:cNvCxnSpPr>
            <a:stCxn id="495" idx="3"/>
          </p:cNvCxnSpPr>
          <p:nvPr/>
        </p:nvCxnSpPr>
        <p:spPr>
          <a:xfrm>
            <a:off x="5638320" y="487656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685800" y="2600280"/>
            <a:ext cx="1371600" cy="287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6" y="0"/>
                </a:lnTo>
                <a:lnTo>
                  <a:pt x="21600" y="10800"/>
                </a:lnTo>
                <a:lnTo>
                  <a:pt x="19406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nderhouden St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2438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anpass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oorzie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696080" y="251460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gepa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orzie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"/>
          <p:cNvCxnSpPr/>
          <p:nvPr/>
        </p:nvCxnSpPr>
        <p:spPr>
          <a:xfrm>
            <a:off x="7391520" y="274284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ces: Communicatie en Publicat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2438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erspreid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anbevelingsbrief V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95680" y="251460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bevel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ief V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2" idx="3"/>
            <a:endCxn id="503" idx="1"/>
          </p:cNvCxnSpPr>
          <p:nvPr/>
        </p:nvCxnSpPr>
        <p:spPr>
          <a:xfrm>
            <a:off x="3962160" y="2742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6" idx="0"/>
            <a:endCxn id="502" idx="1"/>
          </p:cNvCxnSpPr>
          <p:nvPr/>
        </p:nvCxnSpPr>
        <p:spPr>
          <a:xfrm>
            <a:off x="1676520" y="27428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6" idx="1"/>
            <a:endCxn id="508" idx="1"/>
          </p:cNvCxnSpPr>
          <p:nvPr/>
        </p:nvCxnSpPr>
        <p:spPr>
          <a:xfrm>
            <a:off x="1676520" y="2742840"/>
            <a:ext cx="838800" cy="76284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2514600" y="396252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Uitgeven persbericht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ieuwsbrief, en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506" idx="2"/>
            <a:endCxn id="511" idx="1"/>
          </p:cNvCxnSpPr>
          <p:nvPr/>
        </p:nvCxnSpPr>
        <p:spPr>
          <a:xfrm>
            <a:off x="1676520" y="2743200"/>
            <a:ext cx="838800" cy="228672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4495680" y="403848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berich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ieuwsberich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.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endCxn id="512" idx="1"/>
          </p:cNvCxnSpPr>
          <p:nvPr/>
        </p:nvCxnSpPr>
        <p:spPr>
          <a:xfrm>
            <a:off x="3962160" y="42667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/>
          <p:nvPr/>
        </p:nvCxnSpPr>
        <p:spPr>
          <a:xfrm flipV="1">
            <a:off x="914040" y="2733480"/>
            <a:ext cx="153000" cy="10080"/>
          </a:xfrm>
          <a:prstGeom prst="straightConnector1">
            <a:avLst/>
          </a:prstGeom>
          <a:ln w="0">
            <a:noFill/>
          </a:ln>
        </p:spPr>
      </p:cxnSp>
      <p:sp>
        <p:nvSpPr>
          <p:cNvPr id="506" name=""/>
          <p:cNvSpPr/>
          <p:nvPr/>
        </p:nvSpPr>
        <p:spPr>
          <a:xfrm>
            <a:off x="304920" y="2598840"/>
            <a:ext cx="1371600" cy="287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9" y="0"/>
                </a:lnTo>
                <a:lnTo>
                  <a:pt x="21600" y="10800"/>
                </a:lnTo>
                <a:lnTo>
                  <a:pt x="19069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doorontwikk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14600" y="4724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Public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dditionele produc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480060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ddition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 in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"/>
          <p:cNvCxnSpPr>
            <a:endCxn id="515" idx="1"/>
          </p:cNvCxnSpPr>
          <p:nvPr/>
        </p:nvCxnSpPr>
        <p:spPr>
          <a:xfrm>
            <a:off x="3962160" y="5028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25146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Publicatie nieuwe StU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(deel)specifc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95680" y="327672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 (dee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pecificati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elease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"/>
          <p:cNvCxnSpPr>
            <a:endCxn id="517" idx="1"/>
          </p:cNvCxnSpPr>
          <p:nvPr/>
        </p:nvCxnSpPr>
        <p:spPr>
          <a:xfrm>
            <a:off x="3962160" y="3504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506" idx="3"/>
            <a:endCxn id="509" idx="1"/>
          </p:cNvCxnSpPr>
          <p:nvPr/>
        </p:nvCxnSpPr>
        <p:spPr>
          <a:xfrm>
            <a:off x="1676520" y="2742840"/>
            <a:ext cx="838800" cy="152460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rganisatorische afsprak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57400" y="3809880"/>
            <a:ext cx="14479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Expertgro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81280" y="3809880"/>
            <a:ext cx="16002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Regiegro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57800" y="3809880"/>
            <a:ext cx="13716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co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28800" y="5334120"/>
            <a:ext cx="9907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ak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95560" y="2819520"/>
            <a:ext cx="99072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2590920"/>
            <a:ext cx="106668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ud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asisregistrati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548640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dvies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52480" y="2362320"/>
            <a:ext cx="259092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bruikers van St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76520" y="5181480"/>
            <a:ext cx="259056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43400" y="5181480"/>
            <a:ext cx="15238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expert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5334120"/>
            <a:ext cx="99036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rojec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752480" y="3657600"/>
            <a:ext cx="68580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UF particip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2286000"/>
            <a:ext cx="41148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-overheidsprojec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24280" y="2362320"/>
            <a:ext cx="68580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23623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24280" y="2743200"/>
            <a:ext cx="60984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2720" y="27432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312408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2743200"/>
            <a:ext cx="9903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09480" y="449496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5410080"/>
            <a:ext cx="99072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AN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781680" y="3809880"/>
            <a:ext cx="13716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elname/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rojectoverleg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48520" y="23623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U/And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27432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34320" y="23623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81680" y="4343400"/>
            <a:ext cx="13716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629400" y="4114800"/>
            <a:ext cx="6629400" cy="13716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jzigingsproces en participat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3276720"/>
            <a:ext cx="11430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Expertgro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3276720"/>
            <a:ext cx="10666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Regiegro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343400" y="3276720"/>
            <a:ext cx="10666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co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5715000"/>
            <a:ext cx="9907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ak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05120" y="2209680"/>
            <a:ext cx="7617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133720"/>
            <a:ext cx="10666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uders v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asisregistrati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571500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dvies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28800" y="2019240"/>
            <a:ext cx="29718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bruikers van St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5562720"/>
            <a:ext cx="259056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343400" y="5562720"/>
            <a:ext cx="152388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F 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8120" y="5715000"/>
            <a:ext cx="990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rojec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200400"/>
            <a:ext cx="533376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UF particip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76920" y="1981080"/>
            <a:ext cx="29718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-overheidsprojec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52880" y="2057400"/>
            <a:ext cx="68580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1320" y="20574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2438280"/>
            <a:ext cx="60984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62920" y="243828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1680" y="312408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3080" y="2743200"/>
            <a:ext cx="9903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71680" y="449496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3080" y="5410080"/>
            <a:ext cx="9903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AAN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86400" y="327672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 deelna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 projec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77120" y="20574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U/And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477120" y="243828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91320" y="243828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162920" y="20574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81680" y="4267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Wijzigi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saanvr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sverzoe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mpact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763120" y="4267080"/>
            <a:ext cx="1981080" cy="1067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Realis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alisatie StUF mode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oftware ont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ublic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458200" y="4724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820520" y="4267080"/>
            <a:ext cx="2057400" cy="1067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Implem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ocumentatie (best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/oplei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oftware ont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est/certific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591920" y="4724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743200" y="220968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Ketenpart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2209680" y="3580920"/>
            <a:ext cx="457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2895120" y="3504960"/>
            <a:ext cx="76212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epen stakeholders bij StUF en hun bela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05040"/>
            <a:ext cx="76212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09680" y="2629080"/>
            <a:ext cx="106704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uders v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asisregistrati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514600"/>
            <a:ext cx="29718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bruikers van St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943600" y="2514600"/>
            <a:ext cx="297180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-overheidsprojec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019920" y="2590920"/>
            <a:ext cx="68580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25909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29718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229600" y="29718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43800" y="25909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U/And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29718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0" y="29718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29600" y="25909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2705040"/>
            <a:ext cx="83844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Ketenpart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520" y="5562720"/>
            <a:ext cx="990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ak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91320" y="5410080"/>
            <a:ext cx="9144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dvies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5410080"/>
            <a:ext cx="2514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5334120"/>
            <a:ext cx="121932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F 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52480" y="5562720"/>
            <a:ext cx="9907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rojec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42670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Arial"/>
              </a:rPr>
              <a:t>Bela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Arial"/>
              </a:rPr>
              <a:t>bij St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62520" y="1866960"/>
            <a:ext cx="5331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81280" y="1752480"/>
            <a:ext cx="1981440" cy="1257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directe belanghebb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724280" y="1866960"/>
            <a:ext cx="53352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ij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724280" y="2324160"/>
            <a:ext cx="53352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cent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324160"/>
            <a:ext cx="5331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"/>
          <p:cNvCxnSpPr>
            <a:stCxn id="599" idx="3"/>
            <a:endCxn id="602" idx="2"/>
          </p:cNvCxnSpPr>
          <p:nvPr/>
        </p:nvCxnSpPr>
        <p:spPr>
          <a:xfrm flipV="1">
            <a:off x="2895120" y="5190480"/>
            <a:ext cx="167724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0" idx="1"/>
            <a:endCxn id="602" idx="2"/>
          </p:cNvCxnSpPr>
          <p:nvPr/>
        </p:nvCxnSpPr>
        <p:spPr>
          <a:xfrm flipH="1" flipV="1">
            <a:off x="4571280" y="5190480"/>
            <a:ext cx="106740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586" idx="2"/>
            <a:endCxn id="602" idx="1"/>
          </p:cNvCxnSpPr>
          <p:nvPr/>
        </p:nvCxnSpPr>
        <p:spPr>
          <a:xfrm>
            <a:off x="1866600" y="3505320"/>
            <a:ext cx="201060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1752480" y="3809880"/>
            <a:ext cx="198144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Kostenbesparing 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tere dienstverlening 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lektronische gegevensuiwiss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ont)koppeling applica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er keuzevrijheid software en leveranc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604" idx="2"/>
            <a:endCxn id="602" idx="0"/>
          </p:cNvCxnSpPr>
          <p:nvPr/>
        </p:nvCxnSpPr>
        <p:spPr>
          <a:xfrm>
            <a:off x="4571640" y="3009960"/>
            <a:ext cx="1080" cy="12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"/>
          <p:cNvSpPr/>
          <p:nvPr/>
        </p:nvSpPr>
        <p:spPr>
          <a:xfrm>
            <a:off x="3924360" y="3124080"/>
            <a:ext cx="12952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tere dienstverlen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-overheidsd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Lagere adm.las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rktwerking door Open standaa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stCxn id="587" idx="2"/>
            <a:endCxn id="602" idx="3"/>
          </p:cNvCxnSpPr>
          <p:nvPr/>
        </p:nvCxnSpPr>
        <p:spPr>
          <a:xfrm flipH="1">
            <a:off x="5266440" y="3580920"/>
            <a:ext cx="21632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5" name=""/>
          <p:cNvSpPr/>
          <p:nvPr/>
        </p:nvSpPr>
        <p:spPr>
          <a:xfrm>
            <a:off x="5562720" y="3657600"/>
            <a:ext cx="19810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sluiten op overheidsstandaa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ergebruik van bestaande midd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5715000"/>
            <a:ext cx="9144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 exp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54100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ienstverle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Integ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895480" y="5257800"/>
            <a:ext cx="12956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ICT produc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&amp; diensten 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ldoen a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Klanteisen (StU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15200" y="4267080"/>
            <a:ext cx="152388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omeinexpert/regiss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4191120"/>
            <a:ext cx="190512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heer&amp;Onderhoud StU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543800" y="4572000"/>
            <a:ext cx="106668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"/>
          <p:cNvCxnSpPr>
            <a:stCxn id="620" idx="1"/>
            <a:endCxn id="602" idx="3"/>
          </p:cNvCxnSpPr>
          <p:nvPr/>
        </p:nvCxnSpPr>
        <p:spPr>
          <a:xfrm flipH="1" flipV="1">
            <a:off x="5266800" y="4724280"/>
            <a:ext cx="1820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942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-overheid vraagt om standaardisatie…zoals StU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2057400"/>
            <a:ext cx="8388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Standaardisatie van gegevensuitwisseling is noodzakelij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om de ambities van e-overheid te realis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lantgerichte digitale dien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eten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enmalige gegevensuitvraag en meervoudig gebru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Één loketgedachte, multichanneling, uniformit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(Ont)kopp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Robuustheid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n 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Keuzevrijheid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n ICT oploss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vrijding uit “lock-in”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heersing informatiehuishoud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meenschappelijk taal over ïnformatie”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zelfde syntax, eenduidige beteke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Lagere ICT kos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oor reductie van “stekk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configuratie voorbee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981080" y="2666880"/>
            <a:ext cx="4952880" cy="2886120"/>
            <a:chOff x="1981080" y="2666880"/>
            <a:chExt cx="4952880" cy="2886120"/>
          </a:xfrm>
        </p:grpSpPr>
        <p:pic>
          <p:nvPicPr>
            <p:cNvPr id="625" name="20080409%20stuf.familie.part03" descr=""/>
            <p:cNvPicPr/>
            <p:nvPr/>
          </p:nvPicPr>
          <p:blipFill>
            <a:blip r:embed="rId2"/>
            <a:stretch/>
          </p:blipFill>
          <p:spPr>
            <a:xfrm>
              <a:off x="1981080" y="2666880"/>
              <a:ext cx="495288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962520" y="4495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2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52880" y="51051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2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72200" y="4495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2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95480" y="3352680"/>
              <a:ext cx="152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276360" y="3276360"/>
              <a:ext cx="1526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733560" y="3429000"/>
              <a:ext cx="1526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90760" y="3352680"/>
              <a:ext cx="1526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47960" y="3352680"/>
              <a:ext cx="1526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05160" y="3429000"/>
              <a:ext cx="1526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62360" y="3352680"/>
              <a:ext cx="1526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37600" y="2743200"/>
              <a:ext cx="2921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Ondersteunde StUF configurat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famil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20080409%20stuf.familie.part03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4952880" cy="28861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231880" y="508644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600" spc="-1" strike="noStrike">
                <a:solidFill>
                  <a:srgbClr val="000000"/>
                </a:solidFill>
                <a:latin typeface="Arial"/>
              </a:rPr>
              <a:t>generieke onderlaa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4572000"/>
            <a:ext cx="99072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971800" y="4572000"/>
            <a:ext cx="145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600" spc="-1" strike="noStrike">
                <a:solidFill>
                  <a:srgbClr val="000000"/>
                </a:solidFill>
                <a:latin typeface="Arial"/>
              </a:rPr>
              <a:t>horizontaal sectormod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295280" y="4191120"/>
            <a:ext cx="5105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629400" y="4191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79600" y="31971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waliteitsz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74920" y="464832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cope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heer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familie - releasetermij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20080409%20stuf.familie.part03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953240" cy="288612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828800" y="2514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990360" y="3657600"/>
            <a:ext cx="913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eleas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rm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219680" y="25146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19680" y="51055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924680" y="2514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16200000">
            <a:off x="6857640" y="3655800"/>
            <a:ext cx="13266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oepassi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geb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240320" y="2514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239240" y="51055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r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7643520" y="39344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ynami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925760" y="251460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001360" y="51055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81000"/>
            <a:ext cx="27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9e8700"/>
                </a:solidFill>
                <a:latin typeface="Arial"/>
                <a:ea typeface="ＭＳ Ｐゴシック"/>
              </a:rPr>
              <a:t>Position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Arial"/>
              </a:rPr>
              <a:t>Lagen in de uitwisseling</a:t>
            </a:r>
            <a:br>
              <a:rPr sz="28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pplicatie - applicat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80010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81000"/>
            <a:ext cx="27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9e8700"/>
                </a:solidFill>
                <a:latin typeface="Arial"/>
                <a:ea typeface="ＭＳ Ｐゴシック"/>
              </a:rPr>
              <a:t>Position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Arial"/>
              </a:rPr>
              <a:t>Lagen in de uitwisseling</a:t>
            </a:r>
            <a:br>
              <a:rPr sz="28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pplicatie - applicat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8001000" cy="48877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533520" y="1752480"/>
            <a:ext cx="8229600" cy="2590920"/>
            <a:chOff x="533520" y="1752480"/>
            <a:chExt cx="8229600" cy="2590920"/>
          </a:xfrm>
        </p:grpSpPr>
        <p:sp>
          <p:nvSpPr>
            <p:cNvPr id="102" name=""/>
            <p:cNvSpPr/>
            <p:nvPr/>
          </p:nvSpPr>
          <p:spPr>
            <a:xfrm>
              <a:off x="533520" y="1752480"/>
              <a:ext cx="8229600" cy="259092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41320" y="2651040"/>
              <a:ext cx="2061360" cy="6426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3600" spc="-1" strike="noStrike">
                  <a:solidFill>
                    <a:srgbClr val="000000"/>
                  </a:solidFill>
                  <a:latin typeface="Times New Roman"/>
                </a:rPr>
                <a:t>INHOU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3520" y="4343400"/>
            <a:ext cx="8229600" cy="838080"/>
            <a:chOff x="533520" y="4343400"/>
            <a:chExt cx="8229600" cy="838080"/>
          </a:xfrm>
        </p:grpSpPr>
        <p:sp>
          <p:nvSpPr>
            <p:cNvPr id="105" name=""/>
            <p:cNvSpPr/>
            <p:nvPr/>
          </p:nvSpPr>
          <p:spPr>
            <a:xfrm>
              <a:off x="533520" y="4343400"/>
              <a:ext cx="8229600" cy="8380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86000" y="4416480"/>
              <a:ext cx="2771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3600" spc="-1" strike="noStrike">
                  <a:solidFill>
                    <a:srgbClr val="000000"/>
                  </a:solidFill>
                  <a:latin typeface="Times New Roman"/>
                </a:rPr>
                <a:t>LOGISTIE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4960" y="5181480"/>
            <a:ext cx="8229600" cy="838440"/>
            <a:chOff x="534960" y="5181480"/>
            <a:chExt cx="8229600" cy="838440"/>
          </a:xfrm>
        </p:grpSpPr>
        <p:sp>
          <p:nvSpPr>
            <p:cNvPr id="108" name=""/>
            <p:cNvSpPr/>
            <p:nvPr/>
          </p:nvSpPr>
          <p:spPr>
            <a:xfrm>
              <a:off x="534960" y="5181480"/>
              <a:ext cx="8229600" cy="83844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1160" y="5305320"/>
              <a:ext cx="3001680" cy="6426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36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UF famil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163600"/>
            <a:ext cx="4343400" cy="2530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16360" y="2060640"/>
            <a:ext cx="4176720" cy="48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baseerd o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n standaard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an W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, web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heidsstandaa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FO BG 9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FO Zaken ‘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SG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naf 3.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end op overheidsinfra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B (vanaf 3.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2C93-5E88-4EE1-BA17-6CB529FD814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7821360" cy="4469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33520" y="1798560"/>
            <a:ext cx="7924680" cy="4678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447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maakt deel uit van GEMMA  </a:t>
            </a:r>
            <a:br>
              <a:rPr sz="3200"/>
            </a:b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de Gemeentelijke Model Architectu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85800" y="2878200"/>
            <a:ext cx="7597800" cy="31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64000" y="3573360"/>
            <a:ext cx="936720" cy="201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47809"/>
          <p:cNvSpPr/>
          <p:nvPr/>
        </p:nvSpPr>
        <p:spPr>
          <a:xfrm>
            <a:off x="3419640" y="2276640"/>
            <a:ext cx="1150920" cy="4176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in de gemeentelijke e-architectu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Elbow Connector 247815"/>
          <p:cNvCxnSpPr/>
          <p:nvPr/>
        </p:nvCxnSpPr>
        <p:spPr>
          <a:xfrm>
            <a:off x="4654080" y="4284720"/>
            <a:ext cx="639000" cy="134208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1" name="Elbow Connector 247816"/>
          <p:cNvCxnSpPr/>
          <p:nvPr/>
        </p:nvCxnSpPr>
        <p:spPr>
          <a:xfrm>
            <a:off x="4654080" y="4284720"/>
            <a:ext cx="926280" cy="837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2" name="Elbow Connector 247817"/>
          <p:cNvCxnSpPr/>
          <p:nvPr/>
        </p:nvCxnSpPr>
        <p:spPr>
          <a:xfrm>
            <a:off x="4654080" y="4284720"/>
            <a:ext cx="639000" cy="33408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3" name="Elbow Connector 247818"/>
          <p:cNvCxnSpPr/>
          <p:nvPr/>
        </p:nvCxnSpPr>
        <p:spPr>
          <a:xfrm flipV="1">
            <a:off x="4654080" y="4113000"/>
            <a:ext cx="926280" cy="17208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4" name="Elbow Connector 247819"/>
          <p:cNvCxnSpPr/>
          <p:nvPr/>
        </p:nvCxnSpPr>
        <p:spPr>
          <a:xfrm flipV="1">
            <a:off x="4654080" y="3609720"/>
            <a:ext cx="639000" cy="675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5" name="Elbow Connector 247820"/>
          <p:cNvCxnSpPr/>
          <p:nvPr/>
        </p:nvCxnSpPr>
        <p:spPr>
          <a:xfrm flipV="1">
            <a:off x="4654080" y="3104280"/>
            <a:ext cx="926280" cy="118044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6" name="Elbow Connector 247821"/>
          <p:cNvCxnSpPr/>
          <p:nvPr/>
        </p:nvCxnSpPr>
        <p:spPr>
          <a:xfrm flipV="1">
            <a:off x="4654080" y="2601720"/>
            <a:ext cx="639000" cy="1683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7" name="Elbow Connector 247822"/>
          <p:cNvCxnSpPr/>
          <p:nvPr/>
        </p:nvCxnSpPr>
        <p:spPr>
          <a:xfrm>
            <a:off x="4654080" y="4284720"/>
            <a:ext cx="926280" cy="1845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sp>
        <p:nvSpPr>
          <p:cNvPr id="128" name="Rectangle 247823"/>
          <p:cNvSpPr/>
          <p:nvPr/>
        </p:nvSpPr>
        <p:spPr>
          <a:xfrm>
            <a:off x="5292720" y="2421000"/>
            <a:ext cx="17604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7824"/>
          <p:cNvSpPr/>
          <p:nvPr/>
        </p:nvSpPr>
        <p:spPr>
          <a:xfrm>
            <a:off x="7053120" y="2421000"/>
            <a:ext cx="360360" cy="36036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47825"/>
          <p:cNvSpPr/>
          <p:nvPr/>
        </p:nvSpPr>
        <p:spPr>
          <a:xfrm>
            <a:off x="5324400" y="247644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Onderwij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7826"/>
          <p:cNvSpPr/>
          <p:nvPr/>
        </p:nvSpPr>
        <p:spPr>
          <a:xfrm>
            <a:off x="5580000" y="2924280"/>
            <a:ext cx="147312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7827"/>
          <p:cNvSpPr/>
          <p:nvPr/>
        </p:nvSpPr>
        <p:spPr>
          <a:xfrm>
            <a:off x="7053120" y="2924280"/>
            <a:ext cx="360360" cy="36036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7828"/>
          <p:cNvSpPr/>
          <p:nvPr/>
        </p:nvSpPr>
        <p:spPr>
          <a:xfrm>
            <a:off x="5324400" y="295272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Parker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7829"/>
          <p:cNvSpPr/>
          <p:nvPr/>
        </p:nvSpPr>
        <p:spPr>
          <a:xfrm>
            <a:off x="5292720" y="3421080"/>
            <a:ext cx="176040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7830"/>
          <p:cNvSpPr/>
          <p:nvPr/>
        </p:nvSpPr>
        <p:spPr>
          <a:xfrm>
            <a:off x="7053120" y="3421080"/>
            <a:ext cx="360360" cy="37620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47831"/>
          <p:cNvSpPr/>
          <p:nvPr/>
        </p:nvSpPr>
        <p:spPr>
          <a:xfrm>
            <a:off x="5311800" y="3490920"/>
            <a:ext cx="116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Bouw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7832"/>
          <p:cNvSpPr/>
          <p:nvPr/>
        </p:nvSpPr>
        <p:spPr>
          <a:xfrm>
            <a:off x="5581800" y="3925800"/>
            <a:ext cx="14731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7833"/>
          <p:cNvSpPr/>
          <p:nvPr/>
        </p:nvSpPr>
        <p:spPr>
          <a:xfrm>
            <a:off x="7053120" y="3925800"/>
            <a:ext cx="360360" cy="37620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7834"/>
          <p:cNvSpPr/>
          <p:nvPr/>
        </p:nvSpPr>
        <p:spPr>
          <a:xfrm>
            <a:off x="5324400" y="40035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Belasting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47835"/>
          <p:cNvSpPr/>
          <p:nvPr/>
        </p:nvSpPr>
        <p:spPr>
          <a:xfrm>
            <a:off x="5292720" y="4437000"/>
            <a:ext cx="17604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7836"/>
          <p:cNvSpPr/>
          <p:nvPr/>
        </p:nvSpPr>
        <p:spPr>
          <a:xfrm>
            <a:off x="7053120" y="4437000"/>
            <a:ext cx="360360" cy="36036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7837"/>
          <p:cNvSpPr/>
          <p:nvPr/>
        </p:nvSpPr>
        <p:spPr>
          <a:xfrm>
            <a:off x="5324400" y="450864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Bedrijv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7838"/>
          <p:cNvSpPr/>
          <p:nvPr/>
        </p:nvSpPr>
        <p:spPr>
          <a:xfrm>
            <a:off x="5580000" y="4933800"/>
            <a:ext cx="1473120" cy="3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47839"/>
          <p:cNvSpPr/>
          <p:nvPr/>
        </p:nvSpPr>
        <p:spPr>
          <a:xfrm>
            <a:off x="7053120" y="4941720"/>
            <a:ext cx="360360" cy="35892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47840"/>
          <p:cNvSpPr/>
          <p:nvPr/>
        </p:nvSpPr>
        <p:spPr>
          <a:xfrm>
            <a:off x="5356080" y="5013360"/>
            <a:ext cx="112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Openb.werk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7841"/>
          <p:cNvSpPr/>
          <p:nvPr/>
        </p:nvSpPr>
        <p:spPr>
          <a:xfrm>
            <a:off x="5292720" y="5445000"/>
            <a:ext cx="17604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7842"/>
          <p:cNvSpPr/>
          <p:nvPr/>
        </p:nvSpPr>
        <p:spPr>
          <a:xfrm>
            <a:off x="7053120" y="5445000"/>
            <a:ext cx="360360" cy="36036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7843"/>
          <p:cNvSpPr/>
          <p:nvPr/>
        </p:nvSpPr>
        <p:spPr>
          <a:xfrm>
            <a:off x="5324400" y="551664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Soc. Dien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47844"/>
          <p:cNvSpPr/>
          <p:nvPr/>
        </p:nvSpPr>
        <p:spPr>
          <a:xfrm>
            <a:off x="5580000" y="5942160"/>
            <a:ext cx="14731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7845"/>
          <p:cNvSpPr/>
          <p:nvPr/>
        </p:nvSpPr>
        <p:spPr>
          <a:xfrm>
            <a:off x="7053120" y="5950080"/>
            <a:ext cx="360360" cy="36180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47846"/>
          <p:cNvSpPr/>
          <p:nvPr/>
        </p:nvSpPr>
        <p:spPr>
          <a:xfrm>
            <a:off x="5324400" y="6021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Burgerzak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47853"/>
          <p:cNvSpPr/>
          <p:nvPr/>
        </p:nvSpPr>
        <p:spPr>
          <a:xfrm>
            <a:off x="3287880" y="403560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Elbow Connector 247854"/>
          <p:cNvCxnSpPr/>
          <p:nvPr/>
        </p:nvCxnSpPr>
        <p:spPr>
          <a:xfrm flipH="1">
            <a:off x="2863080" y="4283640"/>
            <a:ext cx="475560" cy="158508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54" name="Elbow Connector 247855"/>
          <p:cNvCxnSpPr/>
          <p:nvPr/>
        </p:nvCxnSpPr>
        <p:spPr>
          <a:xfrm flipH="1">
            <a:off x="2863080" y="4283640"/>
            <a:ext cx="475560" cy="648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55" name="Elbow Connector 247856"/>
          <p:cNvCxnSpPr/>
          <p:nvPr/>
        </p:nvCxnSpPr>
        <p:spPr>
          <a:xfrm flipH="1" flipV="1">
            <a:off x="2863080" y="3852360"/>
            <a:ext cx="475560" cy="43272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56" name="Elbow Connector 247857"/>
          <p:cNvCxnSpPr/>
          <p:nvPr/>
        </p:nvCxnSpPr>
        <p:spPr>
          <a:xfrm flipH="1" flipV="1">
            <a:off x="2863080" y="2844720"/>
            <a:ext cx="475560" cy="1440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sp>
        <p:nvSpPr>
          <p:cNvPr id="157" name="Oval 247858"/>
          <p:cNvSpPr/>
          <p:nvPr/>
        </p:nvSpPr>
        <p:spPr>
          <a:xfrm>
            <a:off x="4502160" y="403560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Rectangle 247859" descr=""/>
          <p:cNvPicPr/>
          <p:nvPr/>
        </p:nvPicPr>
        <p:blipFill>
          <a:blip r:embed="rId2"/>
          <a:stretch/>
        </p:blipFill>
        <p:spPr>
          <a:xfrm>
            <a:off x="6539040" y="2492280"/>
            <a:ext cx="191880" cy="203400"/>
          </a:xfrm>
          <a:prstGeom prst="rect">
            <a:avLst/>
          </a:prstGeom>
          <a:ln w="0">
            <a:noFill/>
          </a:ln>
        </p:spPr>
      </p:pic>
      <p:pic>
        <p:nvPicPr>
          <p:cNvPr id="159" name="Rectangle 247860" descr=""/>
          <p:cNvPicPr/>
          <p:nvPr/>
        </p:nvPicPr>
        <p:blipFill>
          <a:blip r:embed="rId3"/>
          <a:stretch/>
        </p:blipFill>
        <p:spPr>
          <a:xfrm>
            <a:off x="6827760" y="2492280"/>
            <a:ext cx="154080" cy="22860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247861" descr=""/>
          <p:cNvPicPr/>
          <p:nvPr/>
        </p:nvPicPr>
        <p:blipFill>
          <a:blip r:embed="rId4"/>
          <a:stretch/>
        </p:blipFill>
        <p:spPr>
          <a:xfrm>
            <a:off x="7124760" y="2511360"/>
            <a:ext cx="191880" cy="168480"/>
          </a:xfrm>
          <a:prstGeom prst="rect">
            <a:avLst/>
          </a:prstGeom>
          <a:ln w="0">
            <a:noFill/>
          </a:ln>
        </p:spPr>
      </p:pic>
      <p:pic>
        <p:nvPicPr>
          <p:cNvPr id="161" name="Rectangle 247862" descr=""/>
          <p:cNvPicPr/>
          <p:nvPr/>
        </p:nvPicPr>
        <p:blipFill>
          <a:blip r:embed="rId5"/>
          <a:stretch/>
        </p:blipFill>
        <p:spPr>
          <a:xfrm>
            <a:off x="6539040" y="2997360"/>
            <a:ext cx="191880" cy="20304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247863" descr=""/>
          <p:cNvPicPr/>
          <p:nvPr/>
        </p:nvPicPr>
        <p:blipFill>
          <a:blip r:embed="rId6"/>
          <a:stretch/>
        </p:blipFill>
        <p:spPr>
          <a:xfrm>
            <a:off x="6827760" y="2997360"/>
            <a:ext cx="154080" cy="228600"/>
          </a:xfrm>
          <a:prstGeom prst="rect">
            <a:avLst/>
          </a:prstGeom>
          <a:ln w="0">
            <a:noFill/>
          </a:ln>
        </p:spPr>
      </p:pic>
      <p:pic>
        <p:nvPicPr>
          <p:cNvPr id="163" name="Rectangle 247864" descr=""/>
          <p:cNvPicPr/>
          <p:nvPr/>
        </p:nvPicPr>
        <p:blipFill>
          <a:blip r:embed="rId7"/>
          <a:stretch/>
        </p:blipFill>
        <p:spPr>
          <a:xfrm>
            <a:off x="7124760" y="3022560"/>
            <a:ext cx="191880" cy="16848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247865" descr=""/>
          <p:cNvPicPr/>
          <p:nvPr/>
        </p:nvPicPr>
        <p:blipFill>
          <a:blip r:embed="rId8"/>
          <a:stretch/>
        </p:blipFill>
        <p:spPr>
          <a:xfrm>
            <a:off x="6532560" y="3506760"/>
            <a:ext cx="192240" cy="2034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247866" descr=""/>
          <p:cNvPicPr/>
          <p:nvPr/>
        </p:nvPicPr>
        <p:blipFill>
          <a:blip r:embed="rId9"/>
          <a:stretch/>
        </p:blipFill>
        <p:spPr>
          <a:xfrm>
            <a:off x="6821640" y="3506760"/>
            <a:ext cx="153720" cy="2286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247867" descr=""/>
          <p:cNvPicPr/>
          <p:nvPr/>
        </p:nvPicPr>
        <p:blipFill>
          <a:blip r:embed="rId10"/>
          <a:stretch/>
        </p:blipFill>
        <p:spPr>
          <a:xfrm>
            <a:off x="7126200" y="3532320"/>
            <a:ext cx="192240" cy="16812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247868" descr=""/>
          <p:cNvPicPr/>
          <p:nvPr/>
        </p:nvPicPr>
        <p:blipFill>
          <a:blip r:embed="rId11"/>
          <a:stretch/>
        </p:blipFill>
        <p:spPr>
          <a:xfrm>
            <a:off x="6539040" y="4008600"/>
            <a:ext cx="191880" cy="203040"/>
          </a:xfrm>
          <a:prstGeom prst="rect">
            <a:avLst/>
          </a:prstGeom>
          <a:ln w="0">
            <a:noFill/>
          </a:ln>
        </p:spPr>
      </p:pic>
      <p:pic>
        <p:nvPicPr>
          <p:cNvPr id="168" name="Rectangle 247869" descr=""/>
          <p:cNvPicPr/>
          <p:nvPr/>
        </p:nvPicPr>
        <p:blipFill>
          <a:blip r:embed="rId12"/>
          <a:stretch/>
        </p:blipFill>
        <p:spPr>
          <a:xfrm>
            <a:off x="6827760" y="4008600"/>
            <a:ext cx="154080" cy="22860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247870" descr=""/>
          <p:cNvPicPr/>
          <p:nvPr/>
        </p:nvPicPr>
        <p:blipFill>
          <a:blip r:embed="rId13"/>
          <a:stretch/>
        </p:blipFill>
        <p:spPr>
          <a:xfrm>
            <a:off x="7124760" y="4033800"/>
            <a:ext cx="191880" cy="1684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247871" descr=""/>
          <p:cNvPicPr/>
          <p:nvPr/>
        </p:nvPicPr>
        <p:blipFill>
          <a:blip r:embed="rId14"/>
          <a:stretch/>
        </p:blipFill>
        <p:spPr>
          <a:xfrm>
            <a:off x="6532560" y="4503600"/>
            <a:ext cx="192240" cy="2034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247872" descr=""/>
          <p:cNvPicPr/>
          <p:nvPr/>
        </p:nvPicPr>
        <p:blipFill>
          <a:blip r:embed="rId15"/>
          <a:stretch/>
        </p:blipFill>
        <p:spPr>
          <a:xfrm>
            <a:off x="6821640" y="4503600"/>
            <a:ext cx="153720" cy="22860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247873" descr=""/>
          <p:cNvPicPr/>
          <p:nvPr/>
        </p:nvPicPr>
        <p:blipFill>
          <a:blip r:embed="rId16"/>
          <a:stretch/>
        </p:blipFill>
        <p:spPr>
          <a:xfrm>
            <a:off x="7126200" y="4529160"/>
            <a:ext cx="192240" cy="16812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247874" descr=""/>
          <p:cNvPicPr/>
          <p:nvPr/>
        </p:nvPicPr>
        <p:blipFill>
          <a:blip r:embed="rId17"/>
          <a:stretch/>
        </p:blipFill>
        <p:spPr>
          <a:xfrm>
            <a:off x="6532560" y="5011560"/>
            <a:ext cx="192240" cy="20340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247875" descr=""/>
          <p:cNvPicPr/>
          <p:nvPr/>
        </p:nvPicPr>
        <p:blipFill>
          <a:blip r:embed="rId18"/>
          <a:stretch/>
        </p:blipFill>
        <p:spPr>
          <a:xfrm>
            <a:off x="6821640" y="5011560"/>
            <a:ext cx="153720" cy="22860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247876" descr=""/>
          <p:cNvPicPr/>
          <p:nvPr/>
        </p:nvPicPr>
        <p:blipFill>
          <a:blip r:embed="rId19"/>
          <a:stretch/>
        </p:blipFill>
        <p:spPr>
          <a:xfrm>
            <a:off x="7126200" y="5037120"/>
            <a:ext cx="192240" cy="16812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247877" descr=""/>
          <p:cNvPicPr/>
          <p:nvPr/>
        </p:nvPicPr>
        <p:blipFill>
          <a:blip r:embed="rId20"/>
          <a:stretch/>
        </p:blipFill>
        <p:spPr>
          <a:xfrm>
            <a:off x="6526080" y="5526000"/>
            <a:ext cx="192240" cy="20340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247878" descr=""/>
          <p:cNvPicPr/>
          <p:nvPr/>
        </p:nvPicPr>
        <p:blipFill>
          <a:blip r:embed="rId21"/>
          <a:stretch/>
        </p:blipFill>
        <p:spPr>
          <a:xfrm>
            <a:off x="6815160" y="5526000"/>
            <a:ext cx="154080" cy="22860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247879" descr=""/>
          <p:cNvPicPr/>
          <p:nvPr/>
        </p:nvPicPr>
        <p:blipFill>
          <a:blip r:embed="rId22"/>
          <a:stretch/>
        </p:blipFill>
        <p:spPr>
          <a:xfrm>
            <a:off x="7126200" y="5551560"/>
            <a:ext cx="192240" cy="168120"/>
          </a:xfrm>
          <a:prstGeom prst="rect">
            <a:avLst/>
          </a:prstGeom>
          <a:ln w="0">
            <a:noFill/>
          </a:ln>
        </p:spPr>
      </p:pic>
      <p:pic>
        <p:nvPicPr>
          <p:cNvPr id="179" name="Rectangle 247880" descr=""/>
          <p:cNvPicPr/>
          <p:nvPr/>
        </p:nvPicPr>
        <p:blipFill>
          <a:blip r:embed="rId23"/>
          <a:stretch/>
        </p:blipFill>
        <p:spPr>
          <a:xfrm>
            <a:off x="6539040" y="6021360"/>
            <a:ext cx="191880" cy="203400"/>
          </a:xfrm>
          <a:prstGeom prst="rect">
            <a:avLst/>
          </a:prstGeom>
          <a:ln w="0">
            <a:noFill/>
          </a:ln>
        </p:spPr>
      </p:pic>
      <p:pic>
        <p:nvPicPr>
          <p:cNvPr id="180" name="Rectangle 247881" descr=""/>
          <p:cNvPicPr/>
          <p:nvPr/>
        </p:nvPicPr>
        <p:blipFill>
          <a:blip r:embed="rId24"/>
          <a:stretch/>
        </p:blipFill>
        <p:spPr>
          <a:xfrm>
            <a:off x="6827760" y="6021360"/>
            <a:ext cx="154080" cy="22860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247882" descr=""/>
          <p:cNvPicPr/>
          <p:nvPr/>
        </p:nvPicPr>
        <p:blipFill>
          <a:blip r:embed="rId25"/>
          <a:stretch/>
        </p:blipFill>
        <p:spPr>
          <a:xfrm>
            <a:off x="7124760" y="6046920"/>
            <a:ext cx="191880" cy="168120"/>
          </a:xfrm>
          <a:prstGeom prst="rect">
            <a:avLst/>
          </a:prstGeom>
          <a:ln w="0">
            <a:noFill/>
          </a:ln>
        </p:spPr>
      </p:pic>
      <p:cxnSp>
        <p:nvCxnSpPr>
          <p:cNvPr id="182" name="Elbow Connector 247883"/>
          <p:cNvCxnSpPr/>
          <p:nvPr/>
        </p:nvCxnSpPr>
        <p:spPr>
          <a:xfrm>
            <a:off x="980640" y="3804840"/>
            <a:ext cx="639000" cy="56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83" name="Rectangle 247885"/>
          <p:cNvSpPr/>
          <p:nvPr/>
        </p:nvSpPr>
        <p:spPr>
          <a:xfrm>
            <a:off x="1619280" y="2276640"/>
            <a:ext cx="1152360" cy="417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47886" descr=""/>
          <p:cNvPicPr/>
          <p:nvPr/>
        </p:nvPicPr>
        <p:blipFill>
          <a:blip r:embed="rId26"/>
          <a:stretch/>
        </p:blipFill>
        <p:spPr>
          <a:xfrm>
            <a:off x="1728720" y="2630520"/>
            <a:ext cx="917640" cy="47952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247887" descr=""/>
          <p:cNvPicPr/>
          <p:nvPr/>
        </p:nvPicPr>
        <p:blipFill>
          <a:blip r:embed="rId27"/>
          <a:stretch/>
        </p:blipFill>
        <p:spPr>
          <a:xfrm>
            <a:off x="1758960" y="3368520"/>
            <a:ext cx="858960" cy="76068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247888" descr=""/>
          <p:cNvPicPr/>
          <p:nvPr/>
        </p:nvPicPr>
        <p:blipFill>
          <a:blip r:embed="rId28"/>
          <a:stretch/>
        </p:blipFill>
        <p:spPr>
          <a:xfrm>
            <a:off x="1963800" y="4506840"/>
            <a:ext cx="449280" cy="77148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247889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1838160" y="5541840"/>
            <a:ext cx="735120" cy="682920"/>
          </a:xfrm>
          <a:prstGeom prst="rect">
            <a:avLst/>
          </a:prstGeom>
          <a:ln w="0">
            <a:noFill/>
          </a:ln>
        </p:spPr>
      </p:pic>
      <p:sp>
        <p:nvSpPr>
          <p:cNvPr id="188" name="Oval 247890"/>
          <p:cNvSpPr/>
          <p:nvPr/>
        </p:nvSpPr>
        <p:spPr>
          <a:xfrm>
            <a:off x="2711520" y="259560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47891"/>
          <p:cNvSpPr/>
          <p:nvPr/>
        </p:nvSpPr>
        <p:spPr>
          <a:xfrm>
            <a:off x="2711520" y="360360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7892"/>
          <p:cNvSpPr/>
          <p:nvPr/>
        </p:nvSpPr>
        <p:spPr>
          <a:xfrm>
            <a:off x="2711520" y="468324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47893"/>
          <p:cNvSpPr/>
          <p:nvPr/>
        </p:nvSpPr>
        <p:spPr>
          <a:xfrm>
            <a:off x="2711520" y="561960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hape 247894"/>
          <p:cNvSpPr/>
          <p:nvPr/>
        </p:nvSpPr>
        <p:spPr>
          <a:xfrm>
            <a:off x="4235400" y="1687680"/>
            <a:ext cx="260280" cy="3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n 247898"/>
          <p:cNvSpPr/>
          <p:nvPr/>
        </p:nvSpPr>
        <p:spPr>
          <a:xfrm>
            <a:off x="3564000" y="5994360"/>
            <a:ext cx="89208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Geg.M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n 247899"/>
          <p:cNvSpPr/>
          <p:nvPr/>
        </p:nvSpPr>
        <p:spPr>
          <a:xfrm>
            <a:off x="3564000" y="2542680"/>
            <a:ext cx="89208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Zak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8000" y="3132000"/>
            <a:ext cx="1511280" cy="3438000"/>
            <a:chOff x="108000" y="3132000"/>
            <a:chExt cx="1511280" cy="3438000"/>
          </a:xfrm>
        </p:grpSpPr>
        <p:grpSp>
          <p:nvGrpSpPr>
            <p:cNvPr id="196" name="Group 40"/>
            <p:cNvGrpSpPr/>
            <p:nvPr/>
          </p:nvGrpSpPr>
          <p:grpSpPr>
            <a:xfrm>
              <a:off x="182520" y="3132000"/>
              <a:ext cx="682560" cy="1081800"/>
              <a:chOff x="182520" y="3132000"/>
              <a:chExt cx="682560" cy="1081800"/>
            </a:xfrm>
          </p:grpSpPr>
          <p:pic>
            <p:nvPicPr>
              <p:cNvPr id="197" name="Rectangle 247848" descr=""/>
              <p:cNvPicPr/>
              <p:nvPr/>
            </p:nvPicPr>
            <p:blipFill>
              <a:blip r:embed="rId31"/>
              <a:stretch/>
            </p:blipFill>
            <p:spPr>
              <a:xfrm>
                <a:off x="302040" y="3132000"/>
                <a:ext cx="454320" cy="82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TextBox 247849"/>
              <p:cNvSpPr/>
              <p:nvPr/>
            </p:nvSpPr>
            <p:spPr>
              <a:xfrm>
                <a:off x="182520" y="3952440"/>
                <a:ext cx="682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1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burg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43"/>
            <p:cNvGrpSpPr/>
            <p:nvPr/>
          </p:nvGrpSpPr>
          <p:grpSpPr>
            <a:xfrm>
              <a:off x="108000" y="4416480"/>
              <a:ext cx="822240" cy="1109160"/>
              <a:chOff x="108000" y="4416480"/>
              <a:chExt cx="822240" cy="1109160"/>
            </a:xfrm>
          </p:grpSpPr>
          <p:pic>
            <p:nvPicPr>
              <p:cNvPr id="200" name="Rectangle 247851" descr=""/>
              <p:cNvPicPr/>
              <p:nvPr/>
            </p:nvPicPr>
            <p:blipFill>
              <a:blip r:embed="rId32"/>
              <a:stretch/>
            </p:blipFill>
            <p:spPr>
              <a:xfrm>
                <a:off x="108000" y="4416480"/>
                <a:ext cx="82224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TextBox 247852"/>
              <p:cNvSpPr/>
              <p:nvPr/>
            </p:nvSpPr>
            <p:spPr>
              <a:xfrm>
                <a:off x="173160" y="5264280"/>
                <a:ext cx="68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1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bedrij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2" name="Elbow Connector 247884"/>
            <p:cNvCxnSpPr/>
            <p:nvPr/>
          </p:nvCxnSpPr>
          <p:spPr>
            <a:xfrm flipV="1">
              <a:off x="980640" y="4365000"/>
              <a:ext cx="639000" cy="592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pic>
          <p:nvPicPr>
            <p:cNvPr id="203" name="Rectangle 247900" descr=""/>
            <p:cNvPicPr/>
            <p:nvPr/>
          </p:nvPicPr>
          <p:blipFill>
            <a:blip r:embed="rId33"/>
            <a:stretch/>
          </p:blipFill>
          <p:spPr>
            <a:xfrm>
              <a:off x="185760" y="5557680"/>
              <a:ext cx="7142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247901"/>
            <p:cNvSpPr/>
            <p:nvPr/>
          </p:nvSpPr>
          <p:spPr>
            <a:xfrm>
              <a:off x="179280" y="6308640"/>
              <a:ext cx="863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mbtena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Elbow Connector 247902"/>
            <p:cNvCxnSpPr/>
            <p:nvPr/>
          </p:nvCxnSpPr>
          <p:spPr>
            <a:xfrm flipV="1">
              <a:off x="971640" y="5573520"/>
              <a:ext cx="638280" cy="592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206" name="Rounded Rectangle 247903"/>
          <p:cNvSpPr/>
          <p:nvPr/>
        </p:nvSpPr>
        <p:spPr>
          <a:xfrm rot="16200000">
            <a:off x="5783040" y="4303080"/>
            <a:ext cx="4103640" cy="1000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n 247905">
            <a:hlinkClick r:id="rId34" action="ppaction://hlinksldjump"/>
          </p:cNvPr>
          <p:cNvSpPr/>
          <p:nvPr/>
        </p:nvSpPr>
        <p:spPr>
          <a:xfrm>
            <a:off x="8031240" y="5903280"/>
            <a:ext cx="86184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GB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n 247906">
            <a:hlinkClick r:id="rId35" action="ppaction://hlinksldjump"/>
          </p:cNvPr>
          <p:cNvSpPr/>
          <p:nvPr/>
        </p:nvSpPr>
        <p:spPr>
          <a:xfrm>
            <a:off x="8029440" y="4534920"/>
            <a:ext cx="86364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WO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n 247907">
            <a:hlinkClick r:id="rId36" action="ppaction://hlinksldjump"/>
          </p:cNvPr>
          <p:cNvSpPr/>
          <p:nvPr/>
        </p:nvSpPr>
        <p:spPr>
          <a:xfrm>
            <a:off x="8029440" y="3239640"/>
            <a:ext cx="86364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WKP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n 247908">
            <a:hlinkClick r:id="rId37" action="ppaction://hlinksldjump"/>
          </p:cNvPr>
          <p:cNvSpPr/>
          <p:nvPr/>
        </p:nvSpPr>
        <p:spPr>
          <a:xfrm>
            <a:off x="8028000" y="3704760"/>
            <a:ext cx="86508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BA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n 247909">
            <a:hlinkClick r:id="rId38" action="ppaction://hlinksldjump"/>
          </p:cNvPr>
          <p:cNvSpPr/>
          <p:nvPr/>
        </p:nvSpPr>
        <p:spPr>
          <a:xfrm>
            <a:off x="8028000" y="2280960"/>
            <a:ext cx="865080" cy="417960"/>
          </a:xfrm>
          <a:prstGeom prst="can">
            <a:avLst>
              <a:gd name="adj" fmla="val 2500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Kadas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n 247910">
            <a:hlinkClick r:id="rId39" action="ppaction://hlinksldjump"/>
          </p:cNvPr>
          <p:cNvSpPr/>
          <p:nvPr/>
        </p:nvSpPr>
        <p:spPr>
          <a:xfrm>
            <a:off x="8028000" y="2760120"/>
            <a:ext cx="865080" cy="417960"/>
          </a:xfrm>
          <a:prstGeom prst="can">
            <a:avLst>
              <a:gd name="adj" fmla="val 2500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Topograf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47911">
            <a:hlinkClick r:id="rId40" action="ppaction://hlinksldjump"/>
          </p:cNvPr>
          <p:cNvSpPr/>
          <p:nvPr/>
        </p:nvSpPr>
        <p:spPr>
          <a:xfrm>
            <a:off x="8028000" y="4947840"/>
            <a:ext cx="865080" cy="417960"/>
          </a:xfrm>
          <a:prstGeom prst="can">
            <a:avLst>
              <a:gd name="adj" fmla="val 2500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Polisad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n 247912">
            <a:hlinkClick r:id="rId41" action="ppaction://hlinksldjump"/>
          </p:cNvPr>
          <p:cNvSpPr/>
          <p:nvPr/>
        </p:nvSpPr>
        <p:spPr>
          <a:xfrm>
            <a:off x="8028000" y="5441400"/>
            <a:ext cx="865080" cy="417960"/>
          </a:xfrm>
          <a:prstGeom prst="can">
            <a:avLst>
              <a:gd name="adj" fmla="val 2500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Inkom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247913"/>
          <p:cNvSpPr/>
          <p:nvPr/>
        </p:nvSpPr>
        <p:spPr>
          <a:xfrm>
            <a:off x="7410600" y="26352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247914"/>
          <p:cNvSpPr/>
          <p:nvPr/>
        </p:nvSpPr>
        <p:spPr>
          <a:xfrm>
            <a:off x="7412040" y="31114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247915"/>
          <p:cNvSpPr/>
          <p:nvPr/>
        </p:nvSpPr>
        <p:spPr>
          <a:xfrm>
            <a:off x="7413480" y="36320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247916"/>
          <p:cNvSpPr/>
          <p:nvPr/>
        </p:nvSpPr>
        <p:spPr>
          <a:xfrm>
            <a:off x="7415280" y="413388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247917"/>
          <p:cNvSpPr/>
          <p:nvPr/>
        </p:nvSpPr>
        <p:spPr>
          <a:xfrm>
            <a:off x="7416720" y="46353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47918"/>
          <p:cNvSpPr/>
          <p:nvPr/>
        </p:nvSpPr>
        <p:spPr>
          <a:xfrm>
            <a:off x="7418520" y="51372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47919"/>
          <p:cNvSpPr/>
          <p:nvPr/>
        </p:nvSpPr>
        <p:spPr>
          <a:xfrm>
            <a:off x="7419960" y="5638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47920"/>
          <p:cNvSpPr/>
          <p:nvPr/>
        </p:nvSpPr>
        <p:spPr>
          <a:xfrm>
            <a:off x="7421400" y="61405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247921"/>
          <p:cNvSpPr/>
          <p:nvPr/>
        </p:nvSpPr>
        <p:spPr>
          <a:xfrm>
            <a:off x="7885080" y="24922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47922"/>
          <p:cNvSpPr/>
          <p:nvPr/>
        </p:nvSpPr>
        <p:spPr>
          <a:xfrm>
            <a:off x="7885080" y="29876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47923"/>
          <p:cNvSpPr/>
          <p:nvPr/>
        </p:nvSpPr>
        <p:spPr>
          <a:xfrm>
            <a:off x="7885080" y="34830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47924"/>
          <p:cNvSpPr/>
          <p:nvPr/>
        </p:nvSpPr>
        <p:spPr>
          <a:xfrm>
            <a:off x="7885080" y="39337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47925"/>
          <p:cNvSpPr/>
          <p:nvPr/>
        </p:nvSpPr>
        <p:spPr>
          <a:xfrm>
            <a:off x="7885080" y="47386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47926"/>
          <p:cNvSpPr/>
          <p:nvPr/>
        </p:nvSpPr>
        <p:spPr>
          <a:xfrm>
            <a:off x="7885080" y="51721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47927"/>
          <p:cNvSpPr/>
          <p:nvPr/>
        </p:nvSpPr>
        <p:spPr>
          <a:xfrm>
            <a:off x="7893000" y="56484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47928"/>
          <p:cNvSpPr/>
          <p:nvPr/>
        </p:nvSpPr>
        <p:spPr>
          <a:xfrm>
            <a:off x="7885080" y="60930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47810"/>
          <p:cNvSpPr/>
          <p:nvPr/>
        </p:nvSpPr>
        <p:spPr>
          <a:xfrm>
            <a:off x="3492360" y="3068640"/>
            <a:ext cx="1009800" cy="261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C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47810"/>
          <p:cNvSpPr/>
          <p:nvPr/>
        </p:nvSpPr>
        <p:spPr>
          <a:xfrm>
            <a:off x="3492360" y="3429000"/>
            <a:ext cx="1009800" cy="261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DMS / Wf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47845"/>
          <p:cNvSpPr/>
          <p:nvPr/>
        </p:nvSpPr>
        <p:spPr>
          <a:xfrm>
            <a:off x="7053120" y="5943600"/>
            <a:ext cx="360360" cy="37620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Rectangle 247879" descr=""/>
          <p:cNvPicPr/>
          <p:nvPr/>
        </p:nvPicPr>
        <p:blipFill>
          <a:blip r:embed="rId42"/>
          <a:stretch/>
        </p:blipFill>
        <p:spPr>
          <a:xfrm>
            <a:off x="7139160" y="6035760"/>
            <a:ext cx="191880" cy="168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90400" y="1687680"/>
            <a:ext cx="695520" cy="247320"/>
          </a:xfrm>
          <a:prstGeom prst="rect">
            <a:avLst/>
          </a:prstGeom>
          <a:solidFill>
            <a:srgbClr val="00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7320" y="1655640"/>
            <a:ext cx="3035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= gebruik van StUF-standaard(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47811"/>
          <p:cNvSpPr/>
          <p:nvPr/>
        </p:nvSpPr>
        <p:spPr>
          <a:xfrm>
            <a:off x="3492360" y="5070600"/>
            <a:ext cx="1009800" cy="261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WOZ-aansl</a:t>
            </a:r>
            <a:r>
              <a:rPr b="1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47812"/>
          <p:cNvSpPr/>
          <p:nvPr/>
        </p:nvSpPr>
        <p:spPr>
          <a:xfrm>
            <a:off x="3492360" y="5357880"/>
            <a:ext cx="1009800" cy="261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Park.ver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47813"/>
          <p:cNvSpPr/>
          <p:nvPr/>
        </p:nvSpPr>
        <p:spPr>
          <a:xfrm>
            <a:off x="3492360" y="5646600"/>
            <a:ext cx="1009800" cy="261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Uittreks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an 247906">
            <a:hlinkClick r:id="rId43" action="ppaction://hlinksldjump"/>
          </p:cNvPr>
          <p:cNvSpPr/>
          <p:nvPr/>
        </p:nvSpPr>
        <p:spPr>
          <a:xfrm>
            <a:off x="8021520" y="4114440"/>
            <a:ext cx="863640" cy="417960"/>
          </a:xfrm>
          <a:prstGeom prst="can">
            <a:avLst>
              <a:gd name="adj" fmla="val 2500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NH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47925"/>
          <p:cNvSpPr/>
          <p:nvPr/>
        </p:nvSpPr>
        <p:spPr>
          <a:xfrm>
            <a:off x="7880400" y="4348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247903"/>
          <p:cNvSpPr/>
          <p:nvPr/>
        </p:nvSpPr>
        <p:spPr>
          <a:xfrm rot="16200000">
            <a:off x="5584680" y="4295160"/>
            <a:ext cx="4103640" cy="10008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hape 247896"/>
          <p:cNvSpPr/>
          <p:nvPr/>
        </p:nvSpPr>
        <p:spPr>
          <a:xfrm>
            <a:off x="3564000" y="3797280"/>
            <a:ext cx="834840" cy="862200"/>
          </a:xfrm>
          <a:prstGeom prst="pie">
            <a:avLst/>
          </a:prstGeom>
          <a:solidFill>
            <a:srgbClr val="00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47916"/>
          <p:cNvSpPr/>
          <p:nvPr/>
        </p:nvSpPr>
        <p:spPr>
          <a:xfrm>
            <a:off x="7682040" y="44863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7810"/>
          <p:cNvSpPr/>
          <p:nvPr/>
        </p:nvSpPr>
        <p:spPr>
          <a:xfrm>
            <a:off x="3492360" y="4772160"/>
            <a:ext cx="1009800" cy="261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Melding 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1107720"/>
            <a:ext cx="79423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UF als open standaard van EZ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t “comply or explain” reg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2122560"/>
            <a:ext cx="5435640" cy="4164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435640" y="2133720"/>
            <a:ext cx="341928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emeentelijke ket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isgegevens uitwisselen en opv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nengemeentelijke integ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gemeentelijke ke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meentelijke zaakgegevens van/naar burgers/bedrij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6C3E-BC8A-472F-B945-9D92CCBBB8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Klaver , </dc:creator>
  <dc:description/>
  <dc:language>en-US</dc:language>
  <cp:lastModifiedBy>Paul Wouters</cp:lastModifiedBy>
  <dcterms:modified xsi:type="dcterms:W3CDTF">2008-10-14T14:31:32Z</dcterms:modified>
  <cp:revision>64</cp:revision>
  <dc:subject/>
  <dc:title>Releaseplanning StUF 3.x</dc:title>
</cp:coreProperties>
</file>